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B03-FBF2-4D2C-8950-0E4EA4AE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C0B-F2B4-4FC4-8A35-483DED6B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86D-E40F-4160-A304-A5AFC25E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286-ECB4-4E75-8617-BDFF0364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D258-47D3-4CB7-A25B-A69C6573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3766-06B9-4D35-BA99-E47717E0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DC99-2B36-4D17-95C7-5F84A80B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8023-51CF-4AA2-9781-BB08CD8C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40CE-8B4A-4F4D-B25C-5FB03186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2C69-52E6-46B5-9650-4080E549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30CC-65A3-45C6-80EA-156431A3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41D-A8A3-474A-BEE3-550FCD67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C486-3098-4F43-AE15-8C97C19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6314-C37D-4ADD-8C63-AEE0766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D500-E93D-4B7A-B31A-F5AFDE0F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2F82-6236-443C-9BD3-BCA55299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9923-E1CC-4BA8-A63F-2B7D1A55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9E8-B3D3-4DD2-84E7-1ED12A0B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27D-8435-4E96-B8D5-BCCC3F69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EF8-A8F3-44B9-8F47-84F7DB0C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DB1-D14C-402B-B125-B22800B9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339-ADAE-4FB5-9B38-14BE48B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086-DB56-4815-893D-25923F57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940-AFAE-4962-B128-DB4FA9BB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2D80-8355-4CEF-B058-4C2B4E88F1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BD4D-0499-4256-8F50-419E066156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120" y="1552680"/>
            <a:ext cx="772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Cartesian graphs work? (i.e. y = 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y = 3x + 2                    x can be an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676920" y="2771640"/>
            <a:ext cx="0" cy="357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8120" y="45864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60640" y="2060640"/>
            <a:ext cx="3062520" cy="53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06440" y="2935440"/>
          <a:ext cx="2395440" cy="3584520"/>
        </p:xfrm>
        <a:graphic>
          <a:graphicData uri="http://schemas.openxmlformats.org/drawingml/2006/table">
            <a:tbl>
              <a:tblPr/>
              <a:tblGrid>
                <a:gridCol w="1197720"/>
                <a:gridCol w="1197720"/>
              </a:tblGrid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6964200" y="3662280"/>
            <a:ext cx="144720" cy="144360"/>
            <a:chOff x="6964200" y="3662280"/>
            <a:chExt cx="144720" cy="144360"/>
          </a:xfrm>
        </p:grpSpPr>
        <p:sp>
          <p:nvSpPr>
            <p:cNvPr id="101" name=""/>
            <p:cNvSpPr/>
            <p:nvPr/>
          </p:nvSpPr>
          <p:spPr>
            <a:xfrm flipH="1">
              <a:off x="6964200" y="366228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64200" y="366228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191000" y="3241800"/>
            <a:ext cx="144720" cy="144360"/>
            <a:chOff x="7191000" y="3241800"/>
            <a:chExt cx="144720" cy="144360"/>
          </a:xfrm>
        </p:grpSpPr>
        <p:sp>
          <p:nvSpPr>
            <p:cNvPr id="104" name=""/>
            <p:cNvSpPr/>
            <p:nvPr/>
          </p:nvSpPr>
          <p:spPr>
            <a:xfrm flipH="1">
              <a:off x="7191000" y="32418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91360" y="32418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927400" y="5532480"/>
            <a:ext cx="144720" cy="144360"/>
            <a:chOff x="5927400" y="5532480"/>
            <a:chExt cx="144720" cy="144360"/>
          </a:xfrm>
        </p:grpSpPr>
        <p:sp>
          <p:nvSpPr>
            <p:cNvPr id="107" name=""/>
            <p:cNvSpPr/>
            <p:nvPr/>
          </p:nvSpPr>
          <p:spPr>
            <a:xfrm flipH="1">
              <a:off x="5927400" y="5532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27760" y="5532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722640" y="4065480"/>
            <a:ext cx="144720" cy="144360"/>
            <a:chOff x="6722640" y="4065480"/>
            <a:chExt cx="144720" cy="144360"/>
          </a:xfrm>
        </p:grpSpPr>
        <p:sp>
          <p:nvSpPr>
            <p:cNvPr id="110" name=""/>
            <p:cNvSpPr/>
            <p:nvPr/>
          </p:nvSpPr>
          <p:spPr>
            <a:xfrm flipH="1">
              <a:off x="6722640" y="4065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23000" y="4065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5616720" y="2583000"/>
            <a:ext cx="2017440" cy="373032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52880" y="4616280"/>
            <a:ext cx="696960" cy="223920"/>
          </a:xfrm>
          <a:custGeom>
            <a:avLst/>
            <a:gdLst/>
            <a:ahLst/>
            <a:rect l="l" t="t" r="r" b="b"/>
            <a:pathLst>
              <a:path w="1936" h="621">
                <a:moveTo>
                  <a:pt x="8905" y="12948"/>
                </a:moveTo>
                <a:cubicBezTo>
                  <a:pt x="8938" y="12923"/>
                  <a:pt x="8965" y="12915"/>
                  <a:pt x="8979" y="12874"/>
                </a:cubicBezTo>
                <a:cubicBezTo>
                  <a:pt x="8979" y="12846"/>
                  <a:pt x="8977" y="12835"/>
                  <a:pt x="8954" y="12824"/>
                </a:cubicBezTo>
                <a:cubicBezTo>
                  <a:pt x="8898" y="12847"/>
                  <a:pt x="8833" y="12888"/>
                  <a:pt x="8806" y="12948"/>
                </a:cubicBezTo>
                <a:cubicBezTo>
                  <a:pt x="8760" y="13049"/>
                  <a:pt x="8727" y="13190"/>
                  <a:pt x="8781" y="13295"/>
                </a:cubicBezTo>
                <a:cubicBezTo>
                  <a:pt x="8819" y="13334"/>
                  <a:pt x="8821" y="13351"/>
                  <a:pt x="8855" y="13345"/>
                </a:cubicBezTo>
                <a:cubicBezTo>
                  <a:pt x="8897" y="13324"/>
                  <a:pt x="8916" y="13268"/>
                  <a:pt x="8930" y="13221"/>
                </a:cubicBezTo>
                <a:cubicBezTo>
                  <a:pt x="8930" y="13196"/>
                  <a:pt x="8930" y="13188"/>
                  <a:pt x="8954" y="13196"/>
                </a:cubicBezTo>
                <a:cubicBezTo>
                  <a:pt x="8979" y="13221"/>
                  <a:pt x="9004" y="13246"/>
                  <a:pt x="9029" y="13271"/>
                </a:cubicBezTo>
              </a:path>
              <a:path w="1936" h="621">
                <a:moveTo>
                  <a:pt x="9079" y="13221"/>
                </a:moveTo>
                <a:cubicBezTo>
                  <a:pt x="9131" y="13266"/>
                  <a:pt x="9147" y="13296"/>
                  <a:pt x="9203" y="13246"/>
                </a:cubicBezTo>
                <a:cubicBezTo>
                  <a:pt x="9231" y="13221"/>
                  <a:pt x="9237" y="13181"/>
                  <a:pt x="9252" y="13146"/>
                </a:cubicBezTo>
                <a:cubicBezTo>
                  <a:pt x="9213" y="13137"/>
                  <a:pt x="9187" y="13098"/>
                  <a:pt x="9153" y="13146"/>
                </a:cubicBezTo>
                <a:cubicBezTo>
                  <a:pt x="9105" y="13214"/>
                  <a:pt x="9135" y="13282"/>
                  <a:pt x="9178" y="13345"/>
                </a:cubicBezTo>
                <a:cubicBezTo>
                  <a:pt x="9205" y="13383"/>
                  <a:pt x="9282" y="13418"/>
                  <a:pt x="9327" y="13395"/>
                </a:cubicBezTo>
                <a:cubicBezTo>
                  <a:pt x="9335" y="13387"/>
                  <a:pt x="9343" y="13378"/>
                  <a:pt x="9351" y="13370"/>
                </a:cubicBezTo>
              </a:path>
              <a:path w="1936" h="621">
                <a:moveTo>
                  <a:pt x="9401" y="13246"/>
                </a:moveTo>
                <a:cubicBezTo>
                  <a:pt x="9401" y="13276"/>
                  <a:pt x="9401" y="13442"/>
                  <a:pt x="9401" y="13395"/>
                </a:cubicBezTo>
                <a:cubicBezTo>
                  <a:pt x="9401" y="13327"/>
                  <a:pt x="9430" y="13272"/>
                  <a:pt x="9475" y="13221"/>
                </a:cubicBezTo>
                <a:cubicBezTo>
                  <a:pt x="9520" y="13170"/>
                  <a:pt x="9569" y="13220"/>
                  <a:pt x="9599" y="13271"/>
                </a:cubicBezTo>
                <a:cubicBezTo>
                  <a:pt x="9613" y="13295"/>
                  <a:pt x="9618" y="13341"/>
                  <a:pt x="9624" y="13370"/>
                </a:cubicBezTo>
              </a:path>
              <a:path w="1936" h="621">
                <a:moveTo>
                  <a:pt x="9575" y="13320"/>
                </a:moveTo>
                <a:cubicBezTo>
                  <a:pt x="9614" y="13320"/>
                  <a:pt x="9730" y="13341"/>
                  <a:pt x="9748" y="13295"/>
                </a:cubicBezTo>
                <a:cubicBezTo>
                  <a:pt x="9748" y="13246"/>
                  <a:pt x="9748" y="13229"/>
                  <a:pt x="9748" y="13196"/>
                </a:cubicBezTo>
                <a:cubicBezTo>
                  <a:pt x="9696" y="13196"/>
                  <a:pt x="9666" y="13179"/>
                  <a:pt x="9649" y="13246"/>
                </a:cubicBezTo>
                <a:cubicBezTo>
                  <a:pt x="9634" y="13304"/>
                  <a:pt x="9648" y="13383"/>
                  <a:pt x="9699" y="13419"/>
                </a:cubicBezTo>
                <a:cubicBezTo>
                  <a:pt x="9756" y="13460"/>
                  <a:pt x="9795" y="13446"/>
                  <a:pt x="9847" y="13419"/>
                </a:cubicBezTo>
                <a:cubicBezTo>
                  <a:pt x="9864" y="13411"/>
                  <a:pt x="9880" y="13403"/>
                  <a:pt x="9897" y="13395"/>
                </a:cubicBezTo>
              </a:path>
              <a:path w="1936" h="621">
                <a:moveTo>
                  <a:pt x="9971" y="13370"/>
                </a:moveTo>
                <a:cubicBezTo>
                  <a:pt x="9971" y="13378"/>
                  <a:pt x="9971" y="13387"/>
                  <a:pt x="9971" y="13395"/>
                </a:cubicBezTo>
                <a:cubicBezTo>
                  <a:pt x="9971" y="13328"/>
                  <a:pt x="9951" y="13246"/>
                  <a:pt x="9996" y="13196"/>
                </a:cubicBezTo>
                <a:cubicBezTo>
                  <a:pt x="10037" y="13150"/>
                  <a:pt x="10050" y="13185"/>
                  <a:pt x="10096" y="13196"/>
                </a:cubicBezTo>
              </a:path>
              <a:path w="1936" h="621">
                <a:moveTo>
                  <a:pt x="10195" y="13246"/>
                </a:moveTo>
                <a:cubicBezTo>
                  <a:pt x="10179" y="13180"/>
                  <a:pt x="10166" y="13198"/>
                  <a:pt x="10145" y="13246"/>
                </a:cubicBezTo>
                <a:cubicBezTo>
                  <a:pt x="10117" y="13310"/>
                  <a:pt x="10111" y="13314"/>
                  <a:pt x="10145" y="13370"/>
                </a:cubicBezTo>
                <a:cubicBezTo>
                  <a:pt x="10202" y="13370"/>
                  <a:pt x="10216" y="13357"/>
                  <a:pt x="10220" y="13295"/>
                </a:cubicBezTo>
                <a:cubicBezTo>
                  <a:pt x="10220" y="13251"/>
                  <a:pt x="10217" y="13238"/>
                  <a:pt x="10244" y="13221"/>
                </a:cubicBezTo>
                <a:cubicBezTo>
                  <a:pt x="10262" y="13252"/>
                  <a:pt x="10305" y="13354"/>
                  <a:pt x="10344" y="13345"/>
                </a:cubicBezTo>
                <a:cubicBezTo>
                  <a:pt x="10450" y="13322"/>
                  <a:pt x="10466" y="13238"/>
                  <a:pt x="10492" y="13146"/>
                </a:cubicBezTo>
                <a:cubicBezTo>
                  <a:pt x="10520" y="13046"/>
                  <a:pt x="10531" y="12943"/>
                  <a:pt x="10567" y="12849"/>
                </a:cubicBezTo>
                <a:cubicBezTo>
                  <a:pt x="10579" y="12957"/>
                  <a:pt x="10614" y="13064"/>
                  <a:pt x="10641" y="13171"/>
                </a:cubicBezTo>
                <a:cubicBezTo>
                  <a:pt x="10662" y="13255"/>
                  <a:pt x="10663" y="13275"/>
                  <a:pt x="10691" y="133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00680" y="4572000"/>
            <a:ext cx="420480" cy="23184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1286" y="12898"/>
                </a:moveTo>
                <a:cubicBezTo>
                  <a:pt x="11322" y="12872"/>
                  <a:pt x="11355" y="12874"/>
                  <a:pt x="11361" y="12824"/>
                </a:cubicBezTo>
                <a:cubicBezTo>
                  <a:pt x="11366" y="12783"/>
                  <a:pt x="11363" y="12715"/>
                  <a:pt x="11311" y="12700"/>
                </a:cubicBezTo>
                <a:cubicBezTo>
                  <a:pt x="11227" y="12676"/>
                  <a:pt x="11218" y="12738"/>
                  <a:pt x="11187" y="12799"/>
                </a:cubicBezTo>
                <a:cubicBezTo>
                  <a:pt x="11142" y="12888"/>
                  <a:pt x="11162" y="12998"/>
                  <a:pt x="11162" y="13097"/>
                </a:cubicBezTo>
                <a:cubicBezTo>
                  <a:pt x="11162" y="13168"/>
                  <a:pt x="11187" y="13225"/>
                  <a:pt x="11187" y="13295"/>
                </a:cubicBezTo>
              </a:path>
              <a:path w="1167" h="646">
                <a:moveTo>
                  <a:pt x="11286" y="13097"/>
                </a:moveTo>
                <a:cubicBezTo>
                  <a:pt x="11286" y="13080"/>
                  <a:pt x="11286" y="13064"/>
                  <a:pt x="11286" y="13047"/>
                </a:cubicBezTo>
                <a:cubicBezTo>
                  <a:pt x="11230" y="13047"/>
                  <a:pt x="11206" y="13085"/>
                  <a:pt x="11162" y="13097"/>
                </a:cubicBezTo>
                <a:cubicBezTo>
                  <a:pt x="11145" y="13097"/>
                  <a:pt x="11129" y="13097"/>
                  <a:pt x="11112" y="13097"/>
                </a:cubicBezTo>
              </a:path>
              <a:path w="1167" h="646">
                <a:moveTo>
                  <a:pt x="11336" y="13097"/>
                </a:moveTo>
                <a:cubicBezTo>
                  <a:pt x="11380" y="13097"/>
                  <a:pt x="11375" y="13099"/>
                  <a:pt x="11410" y="13072"/>
                </a:cubicBezTo>
                <a:cubicBezTo>
                  <a:pt x="11454" y="13105"/>
                  <a:pt x="11488" y="13106"/>
                  <a:pt x="11509" y="13171"/>
                </a:cubicBezTo>
                <a:cubicBezTo>
                  <a:pt x="11526" y="13222"/>
                  <a:pt x="11512" y="13265"/>
                  <a:pt x="11460" y="13271"/>
                </a:cubicBezTo>
                <a:cubicBezTo>
                  <a:pt x="11434" y="13274"/>
                  <a:pt x="11371" y="13262"/>
                  <a:pt x="11361" y="13246"/>
                </a:cubicBezTo>
                <a:cubicBezTo>
                  <a:pt x="11361" y="13221"/>
                  <a:pt x="11361" y="13213"/>
                  <a:pt x="11361" y="13196"/>
                </a:cubicBezTo>
              </a:path>
              <a:path w="1167" h="646">
                <a:moveTo>
                  <a:pt x="11559" y="13196"/>
                </a:moveTo>
                <a:cubicBezTo>
                  <a:pt x="11579" y="13257"/>
                  <a:pt x="11577" y="13272"/>
                  <a:pt x="11609" y="13295"/>
                </a:cubicBezTo>
                <a:cubicBezTo>
                  <a:pt x="11609" y="13244"/>
                  <a:pt x="11593" y="13162"/>
                  <a:pt x="11633" y="13122"/>
                </a:cubicBezTo>
                <a:cubicBezTo>
                  <a:pt x="11643" y="13112"/>
                  <a:pt x="11691" y="13101"/>
                  <a:pt x="11708" y="13097"/>
                </a:cubicBezTo>
              </a:path>
              <a:path w="1167" h="646">
                <a:moveTo>
                  <a:pt x="11832" y="13146"/>
                </a:moveTo>
                <a:cubicBezTo>
                  <a:pt x="11832" y="13212"/>
                  <a:pt x="11832" y="13279"/>
                  <a:pt x="11832" y="13345"/>
                </a:cubicBezTo>
                <a:cubicBezTo>
                  <a:pt x="11867" y="13299"/>
                  <a:pt x="11874" y="13256"/>
                  <a:pt x="11881" y="13196"/>
                </a:cubicBezTo>
                <a:cubicBezTo>
                  <a:pt x="11953" y="13196"/>
                  <a:pt x="11935" y="13189"/>
                  <a:pt x="11981" y="13246"/>
                </a:cubicBezTo>
                <a:cubicBezTo>
                  <a:pt x="11989" y="13254"/>
                  <a:pt x="11997" y="13263"/>
                  <a:pt x="12005" y="13271"/>
                </a:cubicBezTo>
                <a:cubicBezTo>
                  <a:pt x="12052" y="13259"/>
                  <a:pt x="12105" y="13191"/>
                  <a:pt x="12129" y="13146"/>
                </a:cubicBezTo>
                <a:cubicBezTo>
                  <a:pt x="12148" y="13111"/>
                  <a:pt x="12159" y="13106"/>
                  <a:pt x="12204" y="13097"/>
                </a:cubicBezTo>
                <a:cubicBezTo>
                  <a:pt x="12239" y="13159"/>
                  <a:pt x="12264" y="13205"/>
                  <a:pt x="12278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83040" y="5072040"/>
            <a:ext cx="615960" cy="411120"/>
          </a:xfrm>
          <a:custGeom>
            <a:avLst/>
            <a:gdLst/>
            <a:ahLst/>
            <a:rect l="l" t="t" r="r" b="b"/>
            <a:pathLst>
              <a:path w="1712" h="1142">
                <a:moveTo>
                  <a:pt x="11112" y="14163"/>
                </a:moveTo>
                <a:cubicBezTo>
                  <a:pt x="11104" y="14171"/>
                  <a:pt x="11096" y="14180"/>
                  <a:pt x="11088" y="14188"/>
                </a:cubicBezTo>
                <a:cubicBezTo>
                  <a:pt x="11088" y="14153"/>
                  <a:pt x="11093" y="14102"/>
                  <a:pt x="11137" y="14089"/>
                </a:cubicBezTo>
                <a:cubicBezTo>
                  <a:pt x="11218" y="14066"/>
                  <a:pt x="11293" y="14173"/>
                  <a:pt x="11311" y="14238"/>
                </a:cubicBezTo>
                <a:cubicBezTo>
                  <a:pt x="11324" y="14286"/>
                  <a:pt x="11314" y="14431"/>
                  <a:pt x="11261" y="14461"/>
                </a:cubicBezTo>
                <a:cubicBezTo>
                  <a:pt x="11203" y="14494"/>
                  <a:pt x="11111" y="14436"/>
                  <a:pt x="11063" y="14412"/>
                </a:cubicBezTo>
              </a:path>
              <a:path w="1712" h="1142">
                <a:moveTo>
                  <a:pt x="11361" y="14139"/>
                </a:moveTo>
                <a:cubicBezTo>
                  <a:pt x="11402" y="14139"/>
                  <a:pt x="11410" y="14139"/>
                  <a:pt x="11435" y="14139"/>
                </a:cubicBezTo>
                <a:cubicBezTo>
                  <a:pt x="11399" y="14174"/>
                  <a:pt x="11348" y="14211"/>
                  <a:pt x="11336" y="14263"/>
                </a:cubicBezTo>
                <a:cubicBezTo>
                  <a:pt x="11323" y="14318"/>
                  <a:pt x="11322" y="14409"/>
                  <a:pt x="11385" y="14436"/>
                </a:cubicBezTo>
                <a:cubicBezTo>
                  <a:pt x="11418" y="14436"/>
                  <a:pt x="11435" y="14436"/>
                  <a:pt x="11460" y="14436"/>
                </a:cubicBezTo>
              </a:path>
              <a:path w="1712" h="1142">
                <a:moveTo>
                  <a:pt x="11708" y="14263"/>
                </a:moveTo>
                <a:cubicBezTo>
                  <a:pt x="11700" y="14271"/>
                  <a:pt x="11691" y="14280"/>
                  <a:pt x="11683" y="14288"/>
                </a:cubicBezTo>
                <a:cubicBezTo>
                  <a:pt x="11741" y="14330"/>
                  <a:pt x="11727" y="14299"/>
                  <a:pt x="11782" y="14288"/>
                </a:cubicBezTo>
                <a:cubicBezTo>
                  <a:pt x="11844" y="14275"/>
                  <a:pt x="11837" y="14284"/>
                  <a:pt x="11881" y="14238"/>
                </a:cubicBezTo>
              </a:path>
              <a:path w="1712" h="1142">
                <a:moveTo>
                  <a:pt x="12055" y="14213"/>
                </a:moveTo>
                <a:cubicBezTo>
                  <a:pt x="12062" y="14187"/>
                  <a:pt x="12076" y="14129"/>
                  <a:pt x="12105" y="14114"/>
                </a:cubicBezTo>
                <a:cubicBezTo>
                  <a:pt x="12156" y="14088"/>
                  <a:pt x="12216" y="14144"/>
                  <a:pt x="12229" y="14188"/>
                </a:cubicBezTo>
                <a:cubicBezTo>
                  <a:pt x="12243" y="14237"/>
                  <a:pt x="12235" y="14302"/>
                  <a:pt x="12204" y="14337"/>
                </a:cubicBezTo>
                <a:cubicBezTo>
                  <a:pt x="12159" y="14388"/>
                  <a:pt x="12134" y="14351"/>
                  <a:pt x="12080" y="14337"/>
                </a:cubicBezTo>
                <a:cubicBezTo>
                  <a:pt x="12072" y="14337"/>
                  <a:pt x="12063" y="14337"/>
                  <a:pt x="12055" y="14337"/>
                </a:cubicBezTo>
              </a:path>
              <a:path w="1712" h="1142">
                <a:moveTo>
                  <a:pt x="12278" y="14139"/>
                </a:moveTo>
                <a:cubicBezTo>
                  <a:pt x="12295" y="14122"/>
                  <a:pt x="12311" y="14106"/>
                  <a:pt x="12328" y="14089"/>
                </a:cubicBezTo>
                <a:cubicBezTo>
                  <a:pt x="12274" y="14143"/>
                  <a:pt x="12258" y="14184"/>
                  <a:pt x="12254" y="14263"/>
                </a:cubicBezTo>
                <a:cubicBezTo>
                  <a:pt x="12252" y="14308"/>
                  <a:pt x="12274" y="14397"/>
                  <a:pt x="12328" y="14412"/>
                </a:cubicBezTo>
                <a:cubicBezTo>
                  <a:pt x="12369" y="14412"/>
                  <a:pt x="12377" y="14412"/>
                  <a:pt x="12402" y="14412"/>
                </a:cubicBezTo>
              </a:path>
              <a:path w="1712" h="1142">
                <a:moveTo>
                  <a:pt x="12551" y="14362"/>
                </a:moveTo>
                <a:cubicBezTo>
                  <a:pt x="12561" y="14320"/>
                  <a:pt x="12579" y="14293"/>
                  <a:pt x="12626" y="14288"/>
                </a:cubicBezTo>
                <a:cubicBezTo>
                  <a:pt x="12679" y="14282"/>
                  <a:pt x="12696" y="14345"/>
                  <a:pt x="12700" y="14387"/>
                </a:cubicBezTo>
                <a:cubicBezTo>
                  <a:pt x="12708" y="14463"/>
                  <a:pt x="12609" y="14445"/>
                  <a:pt x="12576" y="14436"/>
                </a:cubicBezTo>
              </a:path>
              <a:path w="1712" h="1142">
                <a:moveTo>
                  <a:pt x="12774" y="14560"/>
                </a:moveTo>
                <a:cubicBezTo>
                  <a:pt x="12743" y="14576"/>
                  <a:pt x="12744" y="14585"/>
                  <a:pt x="12675" y="14585"/>
                </a:cubicBezTo>
                <a:cubicBezTo>
                  <a:pt x="12570" y="14585"/>
                  <a:pt x="12479" y="14600"/>
                  <a:pt x="12378" y="14610"/>
                </a:cubicBezTo>
                <a:cubicBezTo>
                  <a:pt x="12308" y="14617"/>
                  <a:pt x="12247" y="14631"/>
                  <a:pt x="12179" y="14635"/>
                </a:cubicBezTo>
                <a:cubicBezTo>
                  <a:pt x="12081" y="14640"/>
                  <a:pt x="11999" y="14623"/>
                  <a:pt x="11906" y="14610"/>
                </a:cubicBezTo>
                <a:cubicBezTo>
                  <a:pt x="11832" y="14600"/>
                  <a:pt x="11752" y="14617"/>
                  <a:pt x="11683" y="14635"/>
                </a:cubicBezTo>
                <a:cubicBezTo>
                  <a:pt x="11609" y="14654"/>
                  <a:pt x="11560" y="14660"/>
                  <a:pt x="11485" y="14660"/>
                </a:cubicBezTo>
                <a:cubicBezTo>
                  <a:pt x="11418" y="14660"/>
                  <a:pt x="11347" y="14663"/>
                  <a:pt x="11286" y="14684"/>
                </a:cubicBezTo>
                <a:cubicBezTo>
                  <a:pt x="11242" y="14699"/>
                  <a:pt x="11215" y="14706"/>
                  <a:pt x="11162" y="14709"/>
                </a:cubicBezTo>
                <a:cubicBezTo>
                  <a:pt x="11137" y="14709"/>
                  <a:pt x="11129" y="14709"/>
                  <a:pt x="11112" y="14709"/>
                </a:cubicBezTo>
              </a:path>
              <a:path w="1712" h="1142">
                <a:moveTo>
                  <a:pt x="11708" y="15180"/>
                </a:moveTo>
                <a:cubicBezTo>
                  <a:pt x="11685" y="15203"/>
                  <a:pt x="11677" y="15207"/>
                  <a:pt x="11683" y="15230"/>
                </a:cubicBezTo>
                <a:cubicBezTo>
                  <a:pt x="11745" y="15215"/>
                  <a:pt x="11743" y="15178"/>
                  <a:pt x="11782" y="15131"/>
                </a:cubicBezTo>
                <a:cubicBezTo>
                  <a:pt x="11843" y="15057"/>
                  <a:pt x="11910" y="14981"/>
                  <a:pt x="11931" y="14883"/>
                </a:cubicBezTo>
                <a:cubicBezTo>
                  <a:pt x="11931" y="14841"/>
                  <a:pt x="11931" y="14833"/>
                  <a:pt x="11931" y="14808"/>
                </a:cubicBezTo>
                <a:cubicBezTo>
                  <a:pt x="11855" y="14827"/>
                  <a:pt x="11842" y="14862"/>
                  <a:pt x="11807" y="14932"/>
                </a:cubicBezTo>
                <a:cubicBezTo>
                  <a:pt x="11766" y="15013"/>
                  <a:pt x="11780" y="15082"/>
                  <a:pt x="11832" y="15156"/>
                </a:cubicBezTo>
                <a:cubicBezTo>
                  <a:pt x="11880" y="15224"/>
                  <a:pt x="11943" y="15207"/>
                  <a:pt x="12005" y="15180"/>
                </a:cubicBezTo>
                <a:cubicBezTo>
                  <a:pt x="12022" y="15172"/>
                  <a:pt x="12038" y="15164"/>
                  <a:pt x="1205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67200" y="5106960"/>
            <a:ext cx="839880" cy="393840"/>
          </a:xfrm>
          <a:custGeom>
            <a:avLst/>
            <a:gdLst/>
            <a:ahLst/>
            <a:rect l="l" t="t" r="r" b="b"/>
            <a:pathLst>
              <a:path w="2332" h="1093">
                <a:moveTo>
                  <a:pt x="13568" y="14610"/>
                </a:moveTo>
                <a:cubicBezTo>
                  <a:pt x="13601" y="14610"/>
                  <a:pt x="13634" y="14610"/>
                  <a:pt x="13667" y="14610"/>
                </a:cubicBezTo>
                <a:cubicBezTo>
                  <a:pt x="13617" y="14610"/>
                  <a:pt x="13609" y="14621"/>
                  <a:pt x="13568" y="14635"/>
                </a:cubicBezTo>
                <a:cubicBezTo>
                  <a:pt x="13543" y="14635"/>
                  <a:pt x="13535" y="14635"/>
                  <a:pt x="13519" y="14635"/>
                </a:cubicBezTo>
              </a:path>
              <a:path w="2332" h="1093">
                <a:moveTo>
                  <a:pt x="13568" y="14610"/>
                </a:moveTo>
                <a:cubicBezTo>
                  <a:pt x="13624" y="14665"/>
                  <a:pt x="13649" y="14663"/>
                  <a:pt x="13643" y="14709"/>
                </a:cubicBezTo>
                <a:cubicBezTo>
                  <a:pt x="13605" y="14737"/>
                  <a:pt x="13581" y="14731"/>
                  <a:pt x="13543" y="14759"/>
                </a:cubicBezTo>
              </a:path>
              <a:path w="2332" h="1093">
                <a:moveTo>
                  <a:pt x="14312" y="14288"/>
                </a:moveTo>
                <a:cubicBezTo>
                  <a:pt x="14312" y="14238"/>
                  <a:pt x="14312" y="14337"/>
                  <a:pt x="14312" y="14387"/>
                </a:cubicBezTo>
                <a:cubicBezTo>
                  <a:pt x="14312" y="14458"/>
                  <a:pt x="14343" y="14507"/>
                  <a:pt x="14387" y="14560"/>
                </a:cubicBezTo>
                <a:cubicBezTo>
                  <a:pt x="14451" y="14528"/>
                  <a:pt x="14440" y="14476"/>
                  <a:pt x="14461" y="14412"/>
                </a:cubicBezTo>
                <a:cubicBezTo>
                  <a:pt x="14469" y="14395"/>
                  <a:pt x="14478" y="14379"/>
                  <a:pt x="14486" y="14362"/>
                </a:cubicBezTo>
                <a:cubicBezTo>
                  <a:pt x="14553" y="14445"/>
                  <a:pt x="14542" y="14482"/>
                  <a:pt x="14560" y="14585"/>
                </a:cubicBezTo>
                <a:cubicBezTo>
                  <a:pt x="14573" y="14659"/>
                  <a:pt x="14603" y="14812"/>
                  <a:pt x="14511" y="14858"/>
                </a:cubicBezTo>
                <a:cubicBezTo>
                  <a:pt x="14463" y="14882"/>
                  <a:pt x="14324" y="14862"/>
                  <a:pt x="14288" y="14833"/>
                </a:cubicBezTo>
                <a:cubicBezTo>
                  <a:pt x="14266" y="14811"/>
                  <a:pt x="14257" y="14806"/>
                  <a:pt x="14263" y="14784"/>
                </a:cubicBezTo>
              </a:path>
              <a:path w="2332" h="1093">
                <a:moveTo>
                  <a:pt x="14808" y="14412"/>
                </a:moveTo>
                <a:cubicBezTo>
                  <a:pt x="14808" y="14404"/>
                  <a:pt x="14808" y="14395"/>
                  <a:pt x="14808" y="14387"/>
                </a:cubicBezTo>
                <a:cubicBezTo>
                  <a:pt x="14855" y="14387"/>
                  <a:pt x="14871" y="14370"/>
                  <a:pt x="14908" y="14362"/>
                </a:cubicBezTo>
                <a:cubicBezTo>
                  <a:pt x="14962" y="14350"/>
                  <a:pt x="15007" y="14350"/>
                  <a:pt x="15056" y="14337"/>
                </a:cubicBezTo>
              </a:path>
              <a:path w="2332" h="1093">
                <a:moveTo>
                  <a:pt x="15230" y="14188"/>
                </a:moveTo>
                <a:cubicBezTo>
                  <a:pt x="15230" y="14253"/>
                  <a:pt x="15253" y="14303"/>
                  <a:pt x="15280" y="14362"/>
                </a:cubicBezTo>
                <a:cubicBezTo>
                  <a:pt x="15313" y="14433"/>
                  <a:pt x="15325" y="14507"/>
                  <a:pt x="15379" y="14412"/>
                </a:cubicBezTo>
                <a:cubicBezTo>
                  <a:pt x="15399" y="14371"/>
                  <a:pt x="15408" y="14365"/>
                  <a:pt x="15404" y="14337"/>
                </a:cubicBezTo>
                <a:cubicBezTo>
                  <a:pt x="15412" y="14329"/>
                  <a:pt x="15421" y="14320"/>
                  <a:pt x="15429" y="14312"/>
                </a:cubicBezTo>
                <a:cubicBezTo>
                  <a:pt x="15459" y="14343"/>
                  <a:pt x="15495" y="14514"/>
                  <a:pt x="15503" y="14585"/>
                </a:cubicBezTo>
                <a:cubicBezTo>
                  <a:pt x="15513" y="14671"/>
                  <a:pt x="15537" y="14826"/>
                  <a:pt x="15429" y="14858"/>
                </a:cubicBezTo>
                <a:cubicBezTo>
                  <a:pt x="15353" y="14880"/>
                  <a:pt x="15276" y="14843"/>
                  <a:pt x="15230" y="14784"/>
                </a:cubicBezTo>
                <a:cubicBezTo>
                  <a:pt x="15202" y="14729"/>
                  <a:pt x="15194" y="14706"/>
                  <a:pt x="15205" y="14660"/>
                </a:cubicBezTo>
              </a:path>
              <a:path w="2332" h="1093">
                <a:moveTo>
                  <a:pt x="15677" y="14585"/>
                </a:moveTo>
                <a:cubicBezTo>
                  <a:pt x="15677" y="14540"/>
                  <a:pt x="15675" y="14517"/>
                  <a:pt x="15726" y="14511"/>
                </a:cubicBezTo>
                <a:cubicBezTo>
                  <a:pt x="15772" y="14506"/>
                  <a:pt x="15751" y="14575"/>
                  <a:pt x="15751" y="14610"/>
                </a:cubicBezTo>
                <a:cubicBezTo>
                  <a:pt x="15722" y="14603"/>
                  <a:pt x="15706" y="14593"/>
                  <a:pt x="15677" y="14585"/>
                </a:cubicBezTo>
              </a:path>
              <a:path w="2332" h="1093">
                <a:moveTo>
                  <a:pt x="15850" y="14883"/>
                </a:moveTo>
                <a:cubicBezTo>
                  <a:pt x="15818" y="14875"/>
                  <a:pt x="15783" y="14870"/>
                  <a:pt x="15751" y="14858"/>
                </a:cubicBezTo>
                <a:cubicBezTo>
                  <a:pt x="15670" y="14829"/>
                  <a:pt x="15587" y="14812"/>
                  <a:pt x="15503" y="14784"/>
                </a:cubicBezTo>
                <a:cubicBezTo>
                  <a:pt x="15402" y="14750"/>
                  <a:pt x="15287" y="14738"/>
                  <a:pt x="15180" y="14734"/>
                </a:cubicBezTo>
                <a:cubicBezTo>
                  <a:pt x="15058" y="14730"/>
                  <a:pt x="14950" y="14742"/>
                  <a:pt x="14833" y="14759"/>
                </a:cubicBezTo>
                <a:cubicBezTo>
                  <a:pt x="14698" y="14778"/>
                  <a:pt x="14549" y="14759"/>
                  <a:pt x="14412" y="14759"/>
                </a:cubicBezTo>
              </a:path>
              <a:path w="2332" h="1093">
                <a:moveTo>
                  <a:pt x="14858" y="15131"/>
                </a:moveTo>
                <a:cubicBezTo>
                  <a:pt x="14858" y="15176"/>
                  <a:pt x="14838" y="15189"/>
                  <a:pt x="14833" y="15230"/>
                </a:cubicBezTo>
                <a:cubicBezTo>
                  <a:pt x="14833" y="15255"/>
                  <a:pt x="14833" y="15263"/>
                  <a:pt x="14833" y="15280"/>
                </a:cubicBezTo>
                <a:cubicBezTo>
                  <a:pt x="14882" y="15268"/>
                  <a:pt x="14894" y="15233"/>
                  <a:pt x="14908" y="15180"/>
                </a:cubicBezTo>
                <a:cubicBezTo>
                  <a:pt x="14908" y="15152"/>
                  <a:pt x="14910" y="15142"/>
                  <a:pt x="14932" y="15131"/>
                </a:cubicBezTo>
                <a:cubicBezTo>
                  <a:pt x="14968" y="15143"/>
                  <a:pt x="14965" y="15166"/>
                  <a:pt x="14982" y="15205"/>
                </a:cubicBezTo>
                <a:cubicBezTo>
                  <a:pt x="14997" y="15241"/>
                  <a:pt x="15049" y="15295"/>
                  <a:pt x="15081" y="15230"/>
                </a:cubicBezTo>
                <a:cubicBezTo>
                  <a:pt x="15096" y="15200"/>
                  <a:pt x="15116" y="15149"/>
                  <a:pt x="15156" y="15131"/>
                </a:cubicBezTo>
                <a:cubicBezTo>
                  <a:pt x="15207" y="15108"/>
                  <a:pt x="15220" y="15165"/>
                  <a:pt x="15255" y="15180"/>
                </a:cubicBezTo>
                <a:cubicBezTo>
                  <a:pt x="15301" y="15200"/>
                  <a:pt x="15304" y="15200"/>
                  <a:pt x="15304" y="152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72120" y="516096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17016" y="14709"/>
                </a:moveTo>
                <a:cubicBezTo>
                  <a:pt x="17024" y="14709"/>
                  <a:pt x="17033" y="14709"/>
                  <a:pt x="17041" y="14709"/>
                </a:cubicBezTo>
                <a:cubicBezTo>
                  <a:pt x="16983" y="14709"/>
                  <a:pt x="16925" y="14709"/>
                  <a:pt x="16867" y="14709"/>
                </a:cubicBezTo>
              </a:path>
              <a:path w="2209" h="993">
                <a:moveTo>
                  <a:pt x="17016" y="14808"/>
                </a:moveTo>
                <a:cubicBezTo>
                  <a:pt x="17039" y="14831"/>
                  <a:pt x="17047" y="14835"/>
                  <a:pt x="17041" y="14858"/>
                </a:cubicBezTo>
                <a:cubicBezTo>
                  <a:pt x="17008" y="14858"/>
                  <a:pt x="16975" y="14858"/>
                  <a:pt x="16942" y="14858"/>
                </a:cubicBezTo>
              </a:path>
              <a:path w="2209" h="993">
                <a:moveTo>
                  <a:pt x="17661" y="14387"/>
                </a:moveTo>
                <a:cubicBezTo>
                  <a:pt x="17616" y="14398"/>
                  <a:pt x="17627" y="14419"/>
                  <a:pt x="17611" y="14387"/>
                </a:cubicBezTo>
                <a:cubicBezTo>
                  <a:pt x="17654" y="14387"/>
                  <a:pt x="17786" y="14365"/>
                  <a:pt x="17810" y="14412"/>
                </a:cubicBezTo>
                <a:cubicBezTo>
                  <a:pt x="17833" y="14457"/>
                  <a:pt x="17787" y="14527"/>
                  <a:pt x="17760" y="14560"/>
                </a:cubicBezTo>
                <a:cubicBezTo>
                  <a:pt x="17716" y="14614"/>
                  <a:pt x="17668" y="14635"/>
                  <a:pt x="17661" y="14709"/>
                </a:cubicBezTo>
                <a:cubicBezTo>
                  <a:pt x="17660" y="14717"/>
                  <a:pt x="17680" y="14732"/>
                  <a:pt x="17735" y="14709"/>
                </a:cubicBezTo>
                <a:cubicBezTo>
                  <a:pt x="17777" y="14691"/>
                  <a:pt x="17784" y="14684"/>
                  <a:pt x="17835" y="14684"/>
                </a:cubicBezTo>
                <a:cubicBezTo>
                  <a:pt x="17877" y="14684"/>
                  <a:pt x="17872" y="14674"/>
                  <a:pt x="17884" y="14709"/>
                </a:cubicBezTo>
              </a:path>
              <a:path w="2209" h="993">
                <a:moveTo>
                  <a:pt x="18033" y="14585"/>
                </a:moveTo>
                <a:cubicBezTo>
                  <a:pt x="18056" y="14608"/>
                  <a:pt x="18060" y="14616"/>
                  <a:pt x="18083" y="14610"/>
                </a:cubicBezTo>
                <a:cubicBezTo>
                  <a:pt x="18098" y="14587"/>
                  <a:pt x="18140" y="14565"/>
                  <a:pt x="18182" y="14560"/>
                </a:cubicBezTo>
                <a:cubicBezTo>
                  <a:pt x="18190" y="14560"/>
                  <a:pt x="18199" y="14560"/>
                  <a:pt x="18207" y="14560"/>
                </a:cubicBezTo>
              </a:path>
              <a:path w="2209" h="993">
                <a:moveTo>
                  <a:pt x="18430" y="14387"/>
                </a:moveTo>
                <a:cubicBezTo>
                  <a:pt x="18367" y="14387"/>
                  <a:pt x="18471" y="14375"/>
                  <a:pt x="18479" y="14362"/>
                </a:cubicBezTo>
                <a:cubicBezTo>
                  <a:pt x="18489" y="14346"/>
                  <a:pt x="18515" y="14315"/>
                  <a:pt x="18554" y="14337"/>
                </a:cubicBezTo>
                <a:cubicBezTo>
                  <a:pt x="18582" y="14352"/>
                  <a:pt x="18595" y="14435"/>
                  <a:pt x="18579" y="14461"/>
                </a:cubicBezTo>
                <a:cubicBezTo>
                  <a:pt x="18547" y="14515"/>
                  <a:pt x="18491" y="14582"/>
                  <a:pt x="18455" y="14635"/>
                </a:cubicBezTo>
                <a:cubicBezTo>
                  <a:pt x="18431" y="14671"/>
                  <a:pt x="18414" y="14690"/>
                  <a:pt x="18405" y="14734"/>
                </a:cubicBezTo>
                <a:cubicBezTo>
                  <a:pt x="18463" y="14734"/>
                  <a:pt x="18508" y="14718"/>
                  <a:pt x="18554" y="14709"/>
                </a:cubicBezTo>
                <a:cubicBezTo>
                  <a:pt x="18605" y="14699"/>
                  <a:pt x="18633" y="14695"/>
                  <a:pt x="18678" y="14684"/>
                </a:cubicBezTo>
              </a:path>
              <a:path w="2209" h="993">
                <a:moveTo>
                  <a:pt x="18802" y="14610"/>
                </a:moveTo>
                <a:cubicBezTo>
                  <a:pt x="18794" y="14610"/>
                  <a:pt x="18785" y="14610"/>
                  <a:pt x="18777" y="14610"/>
                </a:cubicBezTo>
                <a:cubicBezTo>
                  <a:pt x="18786" y="14572"/>
                  <a:pt x="18813" y="14549"/>
                  <a:pt x="18852" y="14536"/>
                </a:cubicBezTo>
                <a:cubicBezTo>
                  <a:pt x="18905" y="14519"/>
                  <a:pt x="18913" y="14605"/>
                  <a:pt x="18901" y="14635"/>
                </a:cubicBezTo>
                <a:cubicBezTo>
                  <a:pt x="18887" y="14667"/>
                  <a:pt x="18868" y="14698"/>
                  <a:pt x="18827" y="14684"/>
                </a:cubicBezTo>
                <a:cubicBezTo>
                  <a:pt x="18810" y="14676"/>
                  <a:pt x="18794" y="14668"/>
                  <a:pt x="18777" y="14660"/>
                </a:cubicBezTo>
              </a:path>
              <a:path w="2209" h="993">
                <a:moveTo>
                  <a:pt x="19075" y="14932"/>
                </a:moveTo>
                <a:cubicBezTo>
                  <a:pt x="19057" y="14880"/>
                  <a:pt x="19042" y="14932"/>
                  <a:pt x="19000" y="14908"/>
                </a:cubicBezTo>
                <a:cubicBezTo>
                  <a:pt x="18939" y="14873"/>
                  <a:pt x="18878" y="14883"/>
                  <a:pt x="18802" y="14883"/>
                </a:cubicBezTo>
                <a:cubicBezTo>
                  <a:pt x="18730" y="14883"/>
                  <a:pt x="18627" y="14872"/>
                  <a:pt x="18554" y="14858"/>
                </a:cubicBezTo>
                <a:cubicBezTo>
                  <a:pt x="18451" y="14839"/>
                  <a:pt x="18363" y="14833"/>
                  <a:pt x="18256" y="14833"/>
                </a:cubicBezTo>
                <a:cubicBezTo>
                  <a:pt x="18175" y="14833"/>
                  <a:pt x="17709" y="14788"/>
                  <a:pt x="17686" y="14858"/>
                </a:cubicBezTo>
              </a:path>
              <a:path w="2209" h="993">
                <a:moveTo>
                  <a:pt x="18132" y="15156"/>
                </a:moveTo>
                <a:cubicBezTo>
                  <a:pt x="18132" y="15084"/>
                  <a:pt x="18137" y="15241"/>
                  <a:pt x="18132" y="15255"/>
                </a:cubicBezTo>
                <a:cubicBezTo>
                  <a:pt x="18112" y="15295"/>
                  <a:pt x="18103" y="15301"/>
                  <a:pt x="18107" y="15329"/>
                </a:cubicBezTo>
                <a:cubicBezTo>
                  <a:pt x="18144" y="15317"/>
                  <a:pt x="18158" y="15252"/>
                  <a:pt x="18182" y="15205"/>
                </a:cubicBezTo>
                <a:cubicBezTo>
                  <a:pt x="18222" y="15127"/>
                  <a:pt x="18251" y="15072"/>
                  <a:pt x="18331" y="15106"/>
                </a:cubicBezTo>
                <a:cubicBezTo>
                  <a:pt x="18409" y="15139"/>
                  <a:pt x="18420" y="15229"/>
                  <a:pt x="18430" y="153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52880" y="4616280"/>
            <a:ext cx="696960" cy="223920"/>
          </a:xfrm>
          <a:custGeom>
            <a:avLst/>
            <a:gdLst/>
            <a:ahLst/>
            <a:rect l="l" t="t" r="r" b="b"/>
            <a:pathLst>
              <a:path w="1936" h="621">
                <a:moveTo>
                  <a:pt x="8905" y="12948"/>
                </a:moveTo>
                <a:cubicBezTo>
                  <a:pt x="8938" y="12923"/>
                  <a:pt x="8965" y="12915"/>
                  <a:pt x="8979" y="12874"/>
                </a:cubicBezTo>
                <a:cubicBezTo>
                  <a:pt x="8979" y="12846"/>
                  <a:pt x="8977" y="12835"/>
                  <a:pt x="8954" y="12824"/>
                </a:cubicBezTo>
                <a:cubicBezTo>
                  <a:pt x="8898" y="12847"/>
                  <a:pt x="8833" y="12888"/>
                  <a:pt x="8806" y="12948"/>
                </a:cubicBezTo>
                <a:cubicBezTo>
                  <a:pt x="8760" y="13049"/>
                  <a:pt x="8727" y="13190"/>
                  <a:pt x="8781" y="13295"/>
                </a:cubicBezTo>
                <a:cubicBezTo>
                  <a:pt x="8819" y="13334"/>
                  <a:pt x="8821" y="13351"/>
                  <a:pt x="8855" y="13345"/>
                </a:cubicBezTo>
                <a:cubicBezTo>
                  <a:pt x="8897" y="13324"/>
                  <a:pt x="8916" y="13268"/>
                  <a:pt x="8930" y="13221"/>
                </a:cubicBezTo>
                <a:cubicBezTo>
                  <a:pt x="8930" y="13196"/>
                  <a:pt x="8930" y="13188"/>
                  <a:pt x="8954" y="13196"/>
                </a:cubicBezTo>
                <a:cubicBezTo>
                  <a:pt x="8979" y="13221"/>
                  <a:pt x="9004" y="13246"/>
                  <a:pt x="9029" y="13271"/>
                </a:cubicBezTo>
              </a:path>
              <a:path w="1936" h="621">
                <a:moveTo>
                  <a:pt x="9079" y="13221"/>
                </a:moveTo>
                <a:cubicBezTo>
                  <a:pt x="9131" y="13266"/>
                  <a:pt x="9147" y="13296"/>
                  <a:pt x="9203" y="13246"/>
                </a:cubicBezTo>
                <a:cubicBezTo>
                  <a:pt x="9231" y="13221"/>
                  <a:pt x="9237" y="13181"/>
                  <a:pt x="9252" y="13146"/>
                </a:cubicBezTo>
                <a:cubicBezTo>
                  <a:pt x="9213" y="13137"/>
                  <a:pt x="9187" y="13098"/>
                  <a:pt x="9153" y="13146"/>
                </a:cubicBezTo>
                <a:cubicBezTo>
                  <a:pt x="9105" y="13214"/>
                  <a:pt x="9135" y="13282"/>
                  <a:pt x="9178" y="13345"/>
                </a:cubicBezTo>
                <a:cubicBezTo>
                  <a:pt x="9205" y="13383"/>
                  <a:pt x="9282" y="13418"/>
                  <a:pt x="9327" y="13395"/>
                </a:cubicBezTo>
                <a:cubicBezTo>
                  <a:pt x="9335" y="13387"/>
                  <a:pt x="9343" y="13378"/>
                  <a:pt x="9351" y="13370"/>
                </a:cubicBezTo>
              </a:path>
              <a:path w="1936" h="621">
                <a:moveTo>
                  <a:pt x="9401" y="13246"/>
                </a:moveTo>
                <a:cubicBezTo>
                  <a:pt x="9401" y="13276"/>
                  <a:pt x="9401" y="13442"/>
                  <a:pt x="9401" y="13395"/>
                </a:cubicBezTo>
                <a:cubicBezTo>
                  <a:pt x="9401" y="13327"/>
                  <a:pt x="9430" y="13272"/>
                  <a:pt x="9475" y="13221"/>
                </a:cubicBezTo>
                <a:cubicBezTo>
                  <a:pt x="9520" y="13170"/>
                  <a:pt x="9569" y="13220"/>
                  <a:pt x="9599" y="13271"/>
                </a:cubicBezTo>
                <a:cubicBezTo>
                  <a:pt x="9613" y="13295"/>
                  <a:pt x="9618" y="13341"/>
                  <a:pt x="9624" y="13370"/>
                </a:cubicBezTo>
              </a:path>
              <a:path w="1936" h="621">
                <a:moveTo>
                  <a:pt x="9575" y="13320"/>
                </a:moveTo>
                <a:cubicBezTo>
                  <a:pt x="9614" y="13320"/>
                  <a:pt x="9730" y="13341"/>
                  <a:pt x="9748" y="13295"/>
                </a:cubicBezTo>
                <a:cubicBezTo>
                  <a:pt x="9748" y="13246"/>
                  <a:pt x="9748" y="13229"/>
                  <a:pt x="9748" y="13196"/>
                </a:cubicBezTo>
                <a:cubicBezTo>
                  <a:pt x="9696" y="13196"/>
                  <a:pt x="9666" y="13179"/>
                  <a:pt x="9649" y="13246"/>
                </a:cubicBezTo>
                <a:cubicBezTo>
                  <a:pt x="9634" y="13304"/>
                  <a:pt x="9648" y="13383"/>
                  <a:pt x="9699" y="13419"/>
                </a:cubicBezTo>
                <a:cubicBezTo>
                  <a:pt x="9756" y="13460"/>
                  <a:pt x="9795" y="13446"/>
                  <a:pt x="9847" y="13419"/>
                </a:cubicBezTo>
                <a:cubicBezTo>
                  <a:pt x="9864" y="13411"/>
                  <a:pt x="9880" y="13403"/>
                  <a:pt x="9897" y="13395"/>
                </a:cubicBezTo>
              </a:path>
              <a:path w="1936" h="621">
                <a:moveTo>
                  <a:pt x="9971" y="13370"/>
                </a:moveTo>
                <a:cubicBezTo>
                  <a:pt x="9971" y="13378"/>
                  <a:pt x="9971" y="13387"/>
                  <a:pt x="9971" y="13395"/>
                </a:cubicBezTo>
                <a:cubicBezTo>
                  <a:pt x="9971" y="13328"/>
                  <a:pt x="9951" y="13246"/>
                  <a:pt x="9996" y="13196"/>
                </a:cubicBezTo>
                <a:cubicBezTo>
                  <a:pt x="10037" y="13150"/>
                  <a:pt x="10050" y="13185"/>
                  <a:pt x="10096" y="13196"/>
                </a:cubicBezTo>
              </a:path>
              <a:path w="1936" h="621">
                <a:moveTo>
                  <a:pt x="10195" y="13246"/>
                </a:moveTo>
                <a:cubicBezTo>
                  <a:pt x="10179" y="13180"/>
                  <a:pt x="10166" y="13198"/>
                  <a:pt x="10145" y="13246"/>
                </a:cubicBezTo>
                <a:cubicBezTo>
                  <a:pt x="10117" y="13310"/>
                  <a:pt x="10111" y="13314"/>
                  <a:pt x="10145" y="13370"/>
                </a:cubicBezTo>
                <a:cubicBezTo>
                  <a:pt x="10202" y="13370"/>
                  <a:pt x="10216" y="13357"/>
                  <a:pt x="10220" y="13295"/>
                </a:cubicBezTo>
                <a:cubicBezTo>
                  <a:pt x="10220" y="13251"/>
                  <a:pt x="10217" y="13238"/>
                  <a:pt x="10244" y="13221"/>
                </a:cubicBezTo>
                <a:cubicBezTo>
                  <a:pt x="10262" y="13252"/>
                  <a:pt x="10305" y="13354"/>
                  <a:pt x="10344" y="13345"/>
                </a:cubicBezTo>
                <a:cubicBezTo>
                  <a:pt x="10450" y="13322"/>
                  <a:pt x="10466" y="13238"/>
                  <a:pt x="10492" y="13146"/>
                </a:cubicBezTo>
                <a:cubicBezTo>
                  <a:pt x="10520" y="13046"/>
                  <a:pt x="10531" y="12943"/>
                  <a:pt x="10567" y="12849"/>
                </a:cubicBezTo>
                <a:cubicBezTo>
                  <a:pt x="10579" y="12957"/>
                  <a:pt x="10614" y="13064"/>
                  <a:pt x="10641" y="13171"/>
                </a:cubicBezTo>
                <a:cubicBezTo>
                  <a:pt x="10662" y="13255"/>
                  <a:pt x="10663" y="13275"/>
                  <a:pt x="10691" y="133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00680" y="4572000"/>
            <a:ext cx="420480" cy="23184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1286" y="12898"/>
                </a:moveTo>
                <a:cubicBezTo>
                  <a:pt x="11322" y="12872"/>
                  <a:pt x="11355" y="12874"/>
                  <a:pt x="11361" y="12824"/>
                </a:cubicBezTo>
                <a:cubicBezTo>
                  <a:pt x="11366" y="12783"/>
                  <a:pt x="11363" y="12715"/>
                  <a:pt x="11311" y="12700"/>
                </a:cubicBezTo>
                <a:cubicBezTo>
                  <a:pt x="11227" y="12676"/>
                  <a:pt x="11218" y="12738"/>
                  <a:pt x="11187" y="12799"/>
                </a:cubicBezTo>
                <a:cubicBezTo>
                  <a:pt x="11142" y="12888"/>
                  <a:pt x="11162" y="12998"/>
                  <a:pt x="11162" y="13097"/>
                </a:cubicBezTo>
                <a:cubicBezTo>
                  <a:pt x="11162" y="13168"/>
                  <a:pt x="11187" y="13225"/>
                  <a:pt x="11187" y="13295"/>
                </a:cubicBezTo>
              </a:path>
              <a:path w="1167" h="646">
                <a:moveTo>
                  <a:pt x="11286" y="13097"/>
                </a:moveTo>
                <a:cubicBezTo>
                  <a:pt x="11286" y="13080"/>
                  <a:pt x="11286" y="13064"/>
                  <a:pt x="11286" y="13047"/>
                </a:cubicBezTo>
                <a:cubicBezTo>
                  <a:pt x="11230" y="13047"/>
                  <a:pt x="11206" y="13085"/>
                  <a:pt x="11162" y="13097"/>
                </a:cubicBezTo>
                <a:cubicBezTo>
                  <a:pt x="11145" y="13097"/>
                  <a:pt x="11129" y="13097"/>
                  <a:pt x="11112" y="13097"/>
                </a:cubicBezTo>
              </a:path>
              <a:path w="1167" h="646">
                <a:moveTo>
                  <a:pt x="11336" y="13097"/>
                </a:moveTo>
                <a:cubicBezTo>
                  <a:pt x="11380" y="13097"/>
                  <a:pt x="11375" y="13099"/>
                  <a:pt x="11410" y="13072"/>
                </a:cubicBezTo>
                <a:cubicBezTo>
                  <a:pt x="11454" y="13105"/>
                  <a:pt x="11488" y="13106"/>
                  <a:pt x="11509" y="13171"/>
                </a:cubicBezTo>
                <a:cubicBezTo>
                  <a:pt x="11526" y="13222"/>
                  <a:pt x="11512" y="13265"/>
                  <a:pt x="11460" y="13271"/>
                </a:cubicBezTo>
                <a:cubicBezTo>
                  <a:pt x="11434" y="13274"/>
                  <a:pt x="11371" y="13262"/>
                  <a:pt x="11361" y="13246"/>
                </a:cubicBezTo>
                <a:cubicBezTo>
                  <a:pt x="11361" y="13221"/>
                  <a:pt x="11361" y="13213"/>
                  <a:pt x="11361" y="13196"/>
                </a:cubicBezTo>
              </a:path>
              <a:path w="1167" h="646">
                <a:moveTo>
                  <a:pt x="11559" y="13196"/>
                </a:moveTo>
                <a:cubicBezTo>
                  <a:pt x="11579" y="13257"/>
                  <a:pt x="11577" y="13272"/>
                  <a:pt x="11609" y="13295"/>
                </a:cubicBezTo>
                <a:cubicBezTo>
                  <a:pt x="11609" y="13244"/>
                  <a:pt x="11593" y="13162"/>
                  <a:pt x="11633" y="13122"/>
                </a:cubicBezTo>
                <a:cubicBezTo>
                  <a:pt x="11643" y="13112"/>
                  <a:pt x="11691" y="13101"/>
                  <a:pt x="11708" y="13097"/>
                </a:cubicBezTo>
              </a:path>
              <a:path w="1167" h="646">
                <a:moveTo>
                  <a:pt x="11832" y="13146"/>
                </a:moveTo>
                <a:cubicBezTo>
                  <a:pt x="11832" y="13212"/>
                  <a:pt x="11832" y="13279"/>
                  <a:pt x="11832" y="13345"/>
                </a:cubicBezTo>
                <a:cubicBezTo>
                  <a:pt x="11867" y="13299"/>
                  <a:pt x="11874" y="13256"/>
                  <a:pt x="11881" y="13196"/>
                </a:cubicBezTo>
                <a:cubicBezTo>
                  <a:pt x="11953" y="13196"/>
                  <a:pt x="11935" y="13189"/>
                  <a:pt x="11981" y="13246"/>
                </a:cubicBezTo>
                <a:cubicBezTo>
                  <a:pt x="11989" y="13254"/>
                  <a:pt x="11997" y="13263"/>
                  <a:pt x="12005" y="13271"/>
                </a:cubicBezTo>
                <a:cubicBezTo>
                  <a:pt x="12052" y="13259"/>
                  <a:pt x="12105" y="13191"/>
                  <a:pt x="12129" y="13146"/>
                </a:cubicBezTo>
                <a:cubicBezTo>
                  <a:pt x="12148" y="13111"/>
                  <a:pt x="12159" y="13106"/>
                  <a:pt x="12204" y="13097"/>
                </a:cubicBezTo>
                <a:cubicBezTo>
                  <a:pt x="12239" y="13159"/>
                  <a:pt x="12264" y="13205"/>
                  <a:pt x="12278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83040" y="5072040"/>
            <a:ext cx="615960" cy="411120"/>
          </a:xfrm>
          <a:custGeom>
            <a:avLst/>
            <a:gdLst/>
            <a:ahLst/>
            <a:rect l="l" t="t" r="r" b="b"/>
            <a:pathLst>
              <a:path w="1712" h="1142">
                <a:moveTo>
                  <a:pt x="11112" y="14163"/>
                </a:moveTo>
                <a:cubicBezTo>
                  <a:pt x="11104" y="14171"/>
                  <a:pt x="11096" y="14180"/>
                  <a:pt x="11088" y="14188"/>
                </a:cubicBezTo>
                <a:cubicBezTo>
                  <a:pt x="11088" y="14153"/>
                  <a:pt x="11093" y="14102"/>
                  <a:pt x="11137" y="14089"/>
                </a:cubicBezTo>
                <a:cubicBezTo>
                  <a:pt x="11218" y="14066"/>
                  <a:pt x="11293" y="14173"/>
                  <a:pt x="11311" y="14238"/>
                </a:cubicBezTo>
                <a:cubicBezTo>
                  <a:pt x="11324" y="14286"/>
                  <a:pt x="11314" y="14431"/>
                  <a:pt x="11261" y="14461"/>
                </a:cubicBezTo>
                <a:cubicBezTo>
                  <a:pt x="11203" y="14494"/>
                  <a:pt x="11111" y="14436"/>
                  <a:pt x="11063" y="14412"/>
                </a:cubicBezTo>
              </a:path>
              <a:path w="1712" h="1142">
                <a:moveTo>
                  <a:pt x="11361" y="14139"/>
                </a:moveTo>
                <a:cubicBezTo>
                  <a:pt x="11402" y="14139"/>
                  <a:pt x="11410" y="14139"/>
                  <a:pt x="11435" y="14139"/>
                </a:cubicBezTo>
                <a:cubicBezTo>
                  <a:pt x="11399" y="14174"/>
                  <a:pt x="11348" y="14211"/>
                  <a:pt x="11336" y="14263"/>
                </a:cubicBezTo>
                <a:cubicBezTo>
                  <a:pt x="11323" y="14318"/>
                  <a:pt x="11322" y="14409"/>
                  <a:pt x="11385" y="14436"/>
                </a:cubicBezTo>
                <a:cubicBezTo>
                  <a:pt x="11418" y="14436"/>
                  <a:pt x="11435" y="14436"/>
                  <a:pt x="11460" y="14436"/>
                </a:cubicBezTo>
              </a:path>
              <a:path w="1712" h="1142">
                <a:moveTo>
                  <a:pt x="11708" y="14263"/>
                </a:moveTo>
                <a:cubicBezTo>
                  <a:pt x="11700" y="14271"/>
                  <a:pt x="11691" y="14280"/>
                  <a:pt x="11683" y="14288"/>
                </a:cubicBezTo>
                <a:cubicBezTo>
                  <a:pt x="11741" y="14330"/>
                  <a:pt x="11727" y="14299"/>
                  <a:pt x="11782" y="14288"/>
                </a:cubicBezTo>
                <a:cubicBezTo>
                  <a:pt x="11844" y="14275"/>
                  <a:pt x="11837" y="14284"/>
                  <a:pt x="11881" y="14238"/>
                </a:cubicBezTo>
              </a:path>
              <a:path w="1712" h="1142">
                <a:moveTo>
                  <a:pt x="12055" y="14213"/>
                </a:moveTo>
                <a:cubicBezTo>
                  <a:pt x="12062" y="14187"/>
                  <a:pt x="12076" y="14129"/>
                  <a:pt x="12105" y="14114"/>
                </a:cubicBezTo>
                <a:cubicBezTo>
                  <a:pt x="12156" y="14088"/>
                  <a:pt x="12216" y="14144"/>
                  <a:pt x="12229" y="14188"/>
                </a:cubicBezTo>
                <a:cubicBezTo>
                  <a:pt x="12243" y="14237"/>
                  <a:pt x="12235" y="14302"/>
                  <a:pt x="12204" y="14337"/>
                </a:cubicBezTo>
                <a:cubicBezTo>
                  <a:pt x="12159" y="14388"/>
                  <a:pt x="12134" y="14351"/>
                  <a:pt x="12080" y="14337"/>
                </a:cubicBezTo>
                <a:cubicBezTo>
                  <a:pt x="12072" y="14337"/>
                  <a:pt x="12063" y="14337"/>
                  <a:pt x="12055" y="14337"/>
                </a:cubicBezTo>
              </a:path>
              <a:path w="1712" h="1142">
                <a:moveTo>
                  <a:pt x="12278" y="14139"/>
                </a:moveTo>
                <a:cubicBezTo>
                  <a:pt x="12295" y="14122"/>
                  <a:pt x="12311" y="14106"/>
                  <a:pt x="12328" y="14089"/>
                </a:cubicBezTo>
                <a:cubicBezTo>
                  <a:pt x="12274" y="14143"/>
                  <a:pt x="12258" y="14184"/>
                  <a:pt x="12254" y="14263"/>
                </a:cubicBezTo>
                <a:cubicBezTo>
                  <a:pt x="12252" y="14308"/>
                  <a:pt x="12274" y="14397"/>
                  <a:pt x="12328" y="14412"/>
                </a:cubicBezTo>
                <a:cubicBezTo>
                  <a:pt x="12369" y="14412"/>
                  <a:pt x="12377" y="14412"/>
                  <a:pt x="12402" y="14412"/>
                </a:cubicBezTo>
              </a:path>
              <a:path w="1712" h="1142">
                <a:moveTo>
                  <a:pt x="12551" y="14362"/>
                </a:moveTo>
                <a:cubicBezTo>
                  <a:pt x="12561" y="14320"/>
                  <a:pt x="12579" y="14293"/>
                  <a:pt x="12626" y="14288"/>
                </a:cubicBezTo>
                <a:cubicBezTo>
                  <a:pt x="12679" y="14282"/>
                  <a:pt x="12696" y="14345"/>
                  <a:pt x="12700" y="14387"/>
                </a:cubicBezTo>
                <a:cubicBezTo>
                  <a:pt x="12708" y="14463"/>
                  <a:pt x="12609" y="14445"/>
                  <a:pt x="12576" y="14436"/>
                </a:cubicBezTo>
              </a:path>
              <a:path w="1712" h="1142">
                <a:moveTo>
                  <a:pt x="12774" y="14560"/>
                </a:moveTo>
                <a:cubicBezTo>
                  <a:pt x="12743" y="14576"/>
                  <a:pt x="12744" y="14585"/>
                  <a:pt x="12675" y="14585"/>
                </a:cubicBezTo>
                <a:cubicBezTo>
                  <a:pt x="12570" y="14585"/>
                  <a:pt x="12479" y="14600"/>
                  <a:pt x="12378" y="14610"/>
                </a:cubicBezTo>
                <a:cubicBezTo>
                  <a:pt x="12308" y="14617"/>
                  <a:pt x="12247" y="14631"/>
                  <a:pt x="12179" y="14635"/>
                </a:cubicBezTo>
                <a:cubicBezTo>
                  <a:pt x="12081" y="14640"/>
                  <a:pt x="11999" y="14623"/>
                  <a:pt x="11906" y="14610"/>
                </a:cubicBezTo>
                <a:cubicBezTo>
                  <a:pt x="11832" y="14600"/>
                  <a:pt x="11752" y="14617"/>
                  <a:pt x="11683" y="14635"/>
                </a:cubicBezTo>
                <a:cubicBezTo>
                  <a:pt x="11609" y="14654"/>
                  <a:pt x="11560" y="14660"/>
                  <a:pt x="11485" y="14660"/>
                </a:cubicBezTo>
                <a:cubicBezTo>
                  <a:pt x="11418" y="14660"/>
                  <a:pt x="11347" y="14663"/>
                  <a:pt x="11286" y="14684"/>
                </a:cubicBezTo>
                <a:cubicBezTo>
                  <a:pt x="11242" y="14699"/>
                  <a:pt x="11215" y="14706"/>
                  <a:pt x="11162" y="14709"/>
                </a:cubicBezTo>
                <a:cubicBezTo>
                  <a:pt x="11137" y="14709"/>
                  <a:pt x="11129" y="14709"/>
                  <a:pt x="11112" y="14709"/>
                </a:cubicBezTo>
              </a:path>
              <a:path w="1712" h="1142">
                <a:moveTo>
                  <a:pt x="11708" y="15180"/>
                </a:moveTo>
                <a:cubicBezTo>
                  <a:pt x="11685" y="15203"/>
                  <a:pt x="11677" y="15207"/>
                  <a:pt x="11683" y="15230"/>
                </a:cubicBezTo>
                <a:cubicBezTo>
                  <a:pt x="11745" y="15215"/>
                  <a:pt x="11743" y="15178"/>
                  <a:pt x="11782" y="15131"/>
                </a:cubicBezTo>
                <a:cubicBezTo>
                  <a:pt x="11843" y="15057"/>
                  <a:pt x="11910" y="14981"/>
                  <a:pt x="11931" y="14883"/>
                </a:cubicBezTo>
                <a:cubicBezTo>
                  <a:pt x="11931" y="14841"/>
                  <a:pt x="11931" y="14833"/>
                  <a:pt x="11931" y="14808"/>
                </a:cubicBezTo>
                <a:cubicBezTo>
                  <a:pt x="11855" y="14827"/>
                  <a:pt x="11842" y="14862"/>
                  <a:pt x="11807" y="14932"/>
                </a:cubicBezTo>
                <a:cubicBezTo>
                  <a:pt x="11766" y="15013"/>
                  <a:pt x="11780" y="15082"/>
                  <a:pt x="11832" y="15156"/>
                </a:cubicBezTo>
                <a:cubicBezTo>
                  <a:pt x="11880" y="15224"/>
                  <a:pt x="11943" y="15207"/>
                  <a:pt x="12005" y="15180"/>
                </a:cubicBezTo>
                <a:cubicBezTo>
                  <a:pt x="12022" y="15172"/>
                  <a:pt x="12038" y="15164"/>
                  <a:pt x="1205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67200" y="5106960"/>
            <a:ext cx="839880" cy="393840"/>
          </a:xfrm>
          <a:custGeom>
            <a:avLst/>
            <a:gdLst/>
            <a:ahLst/>
            <a:rect l="l" t="t" r="r" b="b"/>
            <a:pathLst>
              <a:path w="2332" h="1093">
                <a:moveTo>
                  <a:pt x="13568" y="14610"/>
                </a:moveTo>
                <a:cubicBezTo>
                  <a:pt x="13601" y="14610"/>
                  <a:pt x="13634" y="14610"/>
                  <a:pt x="13667" y="14610"/>
                </a:cubicBezTo>
                <a:cubicBezTo>
                  <a:pt x="13617" y="14610"/>
                  <a:pt x="13609" y="14621"/>
                  <a:pt x="13568" y="14635"/>
                </a:cubicBezTo>
                <a:cubicBezTo>
                  <a:pt x="13543" y="14635"/>
                  <a:pt x="13535" y="14635"/>
                  <a:pt x="13519" y="14635"/>
                </a:cubicBezTo>
              </a:path>
              <a:path w="2332" h="1093">
                <a:moveTo>
                  <a:pt x="13568" y="14610"/>
                </a:moveTo>
                <a:cubicBezTo>
                  <a:pt x="13624" y="14665"/>
                  <a:pt x="13649" y="14663"/>
                  <a:pt x="13643" y="14709"/>
                </a:cubicBezTo>
                <a:cubicBezTo>
                  <a:pt x="13605" y="14737"/>
                  <a:pt x="13581" y="14731"/>
                  <a:pt x="13543" y="14759"/>
                </a:cubicBezTo>
              </a:path>
              <a:path w="2332" h="1093">
                <a:moveTo>
                  <a:pt x="14312" y="14288"/>
                </a:moveTo>
                <a:cubicBezTo>
                  <a:pt x="14312" y="14238"/>
                  <a:pt x="14312" y="14337"/>
                  <a:pt x="14312" y="14387"/>
                </a:cubicBezTo>
                <a:cubicBezTo>
                  <a:pt x="14312" y="14458"/>
                  <a:pt x="14343" y="14507"/>
                  <a:pt x="14387" y="14560"/>
                </a:cubicBezTo>
                <a:cubicBezTo>
                  <a:pt x="14451" y="14528"/>
                  <a:pt x="14440" y="14476"/>
                  <a:pt x="14461" y="14412"/>
                </a:cubicBezTo>
                <a:cubicBezTo>
                  <a:pt x="14469" y="14395"/>
                  <a:pt x="14478" y="14379"/>
                  <a:pt x="14486" y="14362"/>
                </a:cubicBezTo>
                <a:cubicBezTo>
                  <a:pt x="14553" y="14445"/>
                  <a:pt x="14542" y="14482"/>
                  <a:pt x="14560" y="14585"/>
                </a:cubicBezTo>
                <a:cubicBezTo>
                  <a:pt x="14573" y="14659"/>
                  <a:pt x="14603" y="14812"/>
                  <a:pt x="14511" y="14858"/>
                </a:cubicBezTo>
                <a:cubicBezTo>
                  <a:pt x="14463" y="14882"/>
                  <a:pt x="14324" y="14862"/>
                  <a:pt x="14288" y="14833"/>
                </a:cubicBezTo>
                <a:cubicBezTo>
                  <a:pt x="14266" y="14811"/>
                  <a:pt x="14257" y="14806"/>
                  <a:pt x="14263" y="14784"/>
                </a:cubicBezTo>
              </a:path>
              <a:path w="2332" h="1093">
                <a:moveTo>
                  <a:pt x="14808" y="14412"/>
                </a:moveTo>
                <a:cubicBezTo>
                  <a:pt x="14808" y="14404"/>
                  <a:pt x="14808" y="14395"/>
                  <a:pt x="14808" y="14387"/>
                </a:cubicBezTo>
                <a:cubicBezTo>
                  <a:pt x="14855" y="14387"/>
                  <a:pt x="14871" y="14370"/>
                  <a:pt x="14908" y="14362"/>
                </a:cubicBezTo>
                <a:cubicBezTo>
                  <a:pt x="14962" y="14350"/>
                  <a:pt x="15007" y="14350"/>
                  <a:pt x="15056" y="14337"/>
                </a:cubicBezTo>
              </a:path>
              <a:path w="2332" h="1093">
                <a:moveTo>
                  <a:pt x="15230" y="14188"/>
                </a:moveTo>
                <a:cubicBezTo>
                  <a:pt x="15230" y="14253"/>
                  <a:pt x="15253" y="14303"/>
                  <a:pt x="15280" y="14362"/>
                </a:cubicBezTo>
                <a:cubicBezTo>
                  <a:pt x="15313" y="14433"/>
                  <a:pt x="15325" y="14507"/>
                  <a:pt x="15379" y="14412"/>
                </a:cubicBezTo>
                <a:cubicBezTo>
                  <a:pt x="15399" y="14371"/>
                  <a:pt x="15408" y="14365"/>
                  <a:pt x="15404" y="14337"/>
                </a:cubicBezTo>
                <a:cubicBezTo>
                  <a:pt x="15412" y="14329"/>
                  <a:pt x="15421" y="14320"/>
                  <a:pt x="15429" y="14312"/>
                </a:cubicBezTo>
                <a:cubicBezTo>
                  <a:pt x="15459" y="14343"/>
                  <a:pt x="15495" y="14514"/>
                  <a:pt x="15503" y="14585"/>
                </a:cubicBezTo>
                <a:cubicBezTo>
                  <a:pt x="15513" y="14671"/>
                  <a:pt x="15537" y="14826"/>
                  <a:pt x="15429" y="14858"/>
                </a:cubicBezTo>
                <a:cubicBezTo>
                  <a:pt x="15353" y="14880"/>
                  <a:pt x="15276" y="14843"/>
                  <a:pt x="15230" y="14784"/>
                </a:cubicBezTo>
                <a:cubicBezTo>
                  <a:pt x="15202" y="14729"/>
                  <a:pt x="15194" y="14706"/>
                  <a:pt x="15205" y="14660"/>
                </a:cubicBezTo>
              </a:path>
              <a:path w="2332" h="1093">
                <a:moveTo>
                  <a:pt x="15677" y="14585"/>
                </a:moveTo>
                <a:cubicBezTo>
                  <a:pt x="15677" y="14540"/>
                  <a:pt x="15675" y="14517"/>
                  <a:pt x="15726" y="14511"/>
                </a:cubicBezTo>
                <a:cubicBezTo>
                  <a:pt x="15772" y="14506"/>
                  <a:pt x="15751" y="14575"/>
                  <a:pt x="15751" y="14610"/>
                </a:cubicBezTo>
                <a:cubicBezTo>
                  <a:pt x="15722" y="14603"/>
                  <a:pt x="15706" y="14593"/>
                  <a:pt x="15677" y="14585"/>
                </a:cubicBezTo>
              </a:path>
              <a:path w="2332" h="1093">
                <a:moveTo>
                  <a:pt x="15850" y="14883"/>
                </a:moveTo>
                <a:cubicBezTo>
                  <a:pt x="15818" y="14875"/>
                  <a:pt x="15783" y="14870"/>
                  <a:pt x="15751" y="14858"/>
                </a:cubicBezTo>
                <a:cubicBezTo>
                  <a:pt x="15670" y="14829"/>
                  <a:pt x="15587" y="14812"/>
                  <a:pt x="15503" y="14784"/>
                </a:cubicBezTo>
                <a:cubicBezTo>
                  <a:pt x="15402" y="14750"/>
                  <a:pt x="15287" y="14738"/>
                  <a:pt x="15180" y="14734"/>
                </a:cubicBezTo>
                <a:cubicBezTo>
                  <a:pt x="15058" y="14730"/>
                  <a:pt x="14950" y="14742"/>
                  <a:pt x="14833" y="14759"/>
                </a:cubicBezTo>
                <a:cubicBezTo>
                  <a:pt x="14698" y="14778"/>
                  <a:pt x="14549" y="14759"/>
                  <a:pt x="14412" y="14759"/>
                </a:cubicBezTo>
              </a:path>
              <a:path w="2332" h="1093">
                <a:moveTo>
                  <a:pt x="14858" y="15131"/>
                </a:moveTo>
                <a:cubicBezTo>
                  <a:pt x="14858" y="15176"/>
                  <a:pt x="14838" y="15189"/>
                  <a:pt x="14833" y="15230"/>
                </a:cubicBezTo>
                <a:cubicBezTo>
                  <a:pt x="14833" y="15255"/>
                  <a:pt x="14833" y="15263"/>
                  <a:pt x="14833" y="15280"/>
                </a:cubicBezTo>
                <a:cubicBezTo>
                  <a:pt x="14882" y="15268"/>
                  <a:pt x="14894" y="15233"/>
                  <a:pt x="14908" y="15180"/>
                </a:cubicBezTo>
                <a:cubicBezTo>
                  <a:pt x="14908" y="15152"/>
                  <a:pt x="14910" y="15142"/>
                  <a:pt x="14932" y="15131"/>
                </a:cubicBezTo>
                <a:cubicBezTo>
                  <a:pt x="14968" y="15143"/>
                  <a:pt x="14965" y="15166"/>
                  <a:pt x="14982" y="15205"/>
                </a:cubicBezTo>
                <a:cubicBezTo>
                  <a:pt x="14997" y="15241"/>
                  <a:pt x="15049" y="15295"/>
                  <a:pt x="15081" y="15230"/>
                </a:cubicBezTo>
                <a:cubicBezTo>
                  <a:pt x="15096" y="15200"/>
                  <a:pt x="15116" y="15149"/>
                  <a:pt x="15156" y="15131"/>
                </a:cubicBezTo>
                <a:cubicBezTo>
                  <a:pt x="15207" y="15108"/>
                  <a:pt x="15220" y="15165"/>
                  <a:pt x="15255" y="15180"/>
                </a:cubicBezTo>
                <a:cubicBezTo>
                  <a:pt x="15301" y="15200"/>
                  <a:pt x="15304" y="15200"/>
                  <a:pt x="15304" y="152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72120" y="516096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17016" y="14709"/>
                </a:moveTo>
                <a:cubicBezTo>
                  <a:pt x="17024" y="14709"/>
                  <a:pt x="17033" y="14709"/>
                  <a:pt x="17041" y="14709"/>
                </a:cubicBezTo>
                <a:cubicBezTo>
                  <a:pt x="16983" y="14709"/>
                  <a:pt x="16925" y="14709"/>
                  <a:pt x="16867" y="14709"/>
                </a:cubicBezTo>
              </a:path>
              <a:path w="2209" h="993">
                <a:moveTo>
                  <a:pt x="17016" y="14808"/>
                </a:moveTo>
                <a:cubicBezTo>
                  <a:pt x="17039" y="14831"/>
                  <a:pt x="17047" y="14835"/>
                  <a:pt x="17041" y="14858"/>
                </a:cubicBezTo>
                <a:cubicBezTo>
                  <a:pt x="17008" y="14858"/>
                  <a:pt x="16975" y="14858"/>
                  <a:pt x="16942" y="14858"/>
                </a:cubicBezTo>
              </a:path>
              <a:path w="2209" h="993">
                <a:moveTo>
                  <a:pt x="17661" y="14387"/>
                </a:moveTo>
                <a:cubicBezTo>
                  <a:pt x="17616" y="14398"/>
                  <a:pt x="17627" y="14419"/>
                  <a:pt x="17611" y="14387"/>
                </a:cubicBezTo>
                <a:cubicBezTo>
                  <a:pt x="17654" y="14387"/>
                  <a:pt x="17786" y="14365"/>
                  <a:pt x="17810" y="14412"/>
                </a:cubicBezTo>
                <a:cubicBezTo>
                  <a:pt x="17833" y="14457"/>
                  <a:pt x="17787" y="14527"/>
                  <a:pt x="17760" y="14560"/>
                </a:cubicBezTo>
                <a:cubicBezTo>
                  <a:pt x="17716" y="14614"/>
                  <a:pt x="17668" y="14635"/>
                  <a:pt x="17661" y="14709"/>
                </a:cubicBezTo>
                <a:cubicBezTo>
                  <a:pt x="17660" y="14717"/>
                  <a:pt x="17680" y="14732"/>
                  <a:pt x="17735" y="14709"/>
                </a:cubicBezTo>
                <a:cubicBezTo>
                  <a:pt x="17777" y="14691"/>
                  <a:pt x="17784" y="14684"/>
                  <a:pt x="17835" y="14684"/>
                </a:cubicBezTo>
                <a:cubicBezTo>
                  <a:pt x="17877" y="14684"/>
                  <a:pt x="17872" y="14674"/>
                  <a:pt x="17884" y="14709"/>
                </a:cubicBezTo>
              </a:path>
              <a:path w="2209" h="993">
                <a:moveTo>
                  <a:pt x="18033" y="14585"/>
                </a:moveTo>
                <a:cubicBezTo>
                  <a:pt x="18056" y="14608"/>
                  <a:pt x="18060" y="14616"/>
                  <a:pt x="18083" y="14610"/>
                </a:cubicBezTo>
                <a:cubicBezTo>
                  <a:pt x="18098" y="14587"/>
                  <a:pt x="18140" y="14565"/>
                  <a:pt x="18182" y="14560"/>
                </a:cubicBezTo>
                <a:cubicBezTo>
                  <a:pt x="18190" y="14560"/>
                  <a:pt x="18199" y="14560"/>
                  <a:pt x="18207" y="14560"/>
                </a:cubicBezTo>
              </a:path>
              <a:path w="2209" h="993">
                <a:moveTo>
                  <a:pt x="18430" y="14387"/>
                </a:moveTo>
                <a:cubicBezTo>
                  <a:pt x="18367" y="14387"/>
                  <a:pt x="18471" y="14375"/>
                  <a:pt x="18479" y="14362"/>
                </a:cubicBezTo>
                <a:cubicBezTo>
                  <a:pt x="18489" y="14346"/>
                  <a:pt x="18515" y="14315"/>
                  <a:pt x="18554" y="14337"/>
                </a:cubicBezTo>
                <a:cubicBezTo>
                  <a:pt x="18582" y="14352"/>
                  <a:pt x="18595" y="14435"/>
                  <a:pt x="18579" y="14461"/>
                </a:cubicBezTo>
                <a:cubicBezTo>
                  <a:pt x="18547" y="14515"/>
                  <a:pt x="18491" y="14582"/>
                  <a:pt x="18455" y="14635"/>
                </a:cubicBezTo>
                <a:cubicBezTo>
                  <a:pt x="18431" y="14671"/>
                  <a:pt x="18414" y="14690"/>
                  <a:pt x="18405" y="14734"/>
                </a:cubicBezTo>
                <a:cubicBezTo>
                  <a:pt x="18463" y="14734"/>
                  <a:pt x="18508" y="14718"/>
                  <a:pt x="18554" y="14709"/>
                </a:cubicBezTo>
                <a:cubicBezTo>
                  <a:pt x="18605" y="14699"/>
                  <a:pt x="18633" y="14695"/>
                  <a:pt x="18678" y="14684"/>
                </a:cubicBezTo>
              </a:path>
              <a:path w="2209" h="993">
                <a:moveTo>
                  <a:pt x="18802" y="14610"/>
                </a:moveTo>
                <a:cubicBezTo>
                  <a:pt x="18794" y="14610"/>
                  <a:pt x="18785" y="14610"/>
                  <a:pt x="18777" y="14610"/>
                </a:cubicBezTo>
                <a:cubicBezTo>
                  <a:pt x="18786" y="14572"/>
                  <a:pt x="18813" y="14549"/>
                  <a:pt x="18852" y="14536"/>
                </a:cubicBezTo>
                <a:cubicBezTo>
                  <a:pt x="18905" y="14519"/>
                  <a:pt x="18913" y="14605"/>
                  <a:pt x="18901" y="14635"/>
                </a:cubicBezTo>
                <a:cubicBezTo>
                  <a:pt x="18887" y="14667"/>
                  <a:pt x="18868" y="14698"/>
                  <a:pt x="18827" y="14684"/>
                </a:cubicBezTo>
                <a:cubicBezTo>
                  <a:pt x="18810" y="14676"/>
                  <a:pt x="18794" y="14668"/>
                  <a:pt x="18777" y="14660"/>
                </a:cubicBezTo>
              </a:path>
              <a:path w="2209" h="993">
                <a:moveTo>
                  <a:pt x="19075" y="14932"/>
                </a:moveTo>
                <a:cubicBezTo>
                  <a:pt x="19057" y="14880"/>
                  <a:pt x="19042" y="14932"/>
                  <a:pt x="19000" y="14908"/>
                </a:cubicBezTo>
                <a:cubicBezTo>
                  <a:pt x="18939" y="14873"/>
                  <a:pt x="18878" y="14883"/>
                  <a:pt x="18802" y="14883"/>
                </a:cubicBezTo>
                <a:cubicBezTo>
                  <a:pt x="18730" y="14883"/>
                  <a:pt x="18627" y="14872"/>
                  <a:pt x="18554" y="14858"/>
                </a:cubicBezTo>
                <a:cubicBezTo>
                  <a:pt x="18451" y="14839"/>
                  <a:pt x="18363" y="14833"/>
                  <a:pt x="18256" y="14833"/>
                </a:cubicBezTo>
                <a:cubicBezTo>
                  <a:pt x="18175" y="14833"/>
                  <a:pt x="17709" y="14788"/>
                  <a:pt x="17686" y="14858"/>
                </a:cubicBezTo>
              </a:path>
              <a:path w="2209" h="993">
                <a:moveTo>
                  <a:pt x="18132" y="15156"/>
                </a:moveTo>
                <a:cubicBezTo>
                  <a:pt x="18132" y="15084"/>
                  <a:pt x="18137" y="15241"/>
                  <a:pt x="18132" y="15255"/>
                </a:cubicBezTo>
                <a:cubicBezTo>
                  <a:pt x="18112" y="15295"/>
                  <a:pt x="18103" y="15301"/>
                  <a:pt x="18107" y="15329"/>
                </a:cubicBezTo>
                <a:cubicBezTo>
                  <a:pt x="18144" y="15317"/>
                  <a:pt x="18158" y="15252"/>
                  <a:pt x="18182" y="15205"/>
                </a:cubicBezTo>
                <a:cubicBezTo>
                  <a:pt x="18222" y="15127"/>
                  <a:pt x="18251" y="15072"/>
                  <a:pt x="18331" y="15106"/>
                </a:cubicBezTo>
                <a:cubicBezTo>
                  <a:pt x="18409" y="15139"/>
                  <a:pt x="18420" y="15229"/>
                  <a:pt x="18430" y="153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52840" y="5715000"/>
            <a:ext cx="1098360" cy="330120"/>
          </a:xfrm>
          <a:custGeom>
            <a:avLst/>
            <a:gdLst/>
            <a:ahLst/>
            <a:rect l="l" t="t" r="r" b="b"/>
            <a:pathLst>
              <a:path w="3052" h="919">
                <a:moveTo>
                  <a:pt x="7689" y="16247"/>
                </a:moveTo>
                <a:cubicBezTo>
                  <a:pt x="7654" y="16274"/>
                  <a:pt x="7659" y="16272"/>
                  <a:pt x="7615" y="16272"/>
                </a:cubicBezTo>
                <a:cubicBezTo>
                  <a:pt x="7615" y="16226"/>
                  <a:pt x="7609" y="16208"/>
                  <a:pt x="7640" y="16173"/>
                </a:cubicBezTo>
                <a:cubicBezTo>
                  <a:pt x="7706" y="16100"/>
                  <a:pt x="7748" y="16116"/>
                  <a:pt x="7813" y="16173"/>
                </a:cubicBezTo>
                <a:cubicBezTo>
                  <a:pt x="7878" y="16231"/>
                  <a:pt x="7907" y="16312"/>
                  <a:pt x="7913" y="16396"/>
                </a:cubicBezTo>
                <a:cubicBezTo>
                  <a:pt x="7917" y="16449"/>
                  <a:pt x="7829" y="16458"/>
                  <a:pt x="7789" y="16446"/>
                </a:cubicBezTo>
                <a:cubicBezTo>
                  <a:pt x="7742" y="16432"/>
                  <a:pt x="7701" y="16401"/>
                  <a:pt x="7665" y="16371"/>
                </a:cubicBezTo>
              </a:path>
              <a:path w="3052" h="919">
                <a:moveTo>
                  <a:pt x="7938" y="16173"/>
                </a:moveTo>
                <a:cubicBezTo>
                  <a:pt x="7976" y="16134"/>
                  <a:pt x="8008" y="16117"/>
                  <a:pt x="7962" y="16123"/>
                </a:cubicBezTo>
                <a:cubicBezTo>
                  <a:pt x="7935" y="16171"/>
                  <a:pt x="7891" y="16215"/>
                  <a:pt x="7888" y="16272"/>
                </a:cubicBezTo>
                <a:cubicBezTo>
                  <a:pt x="7884" y="16354"/>
                  <a:pt x="7874" y="16411"/>
                  <a:pt x="7962" y="16421"/>
                </a:cubicBezTo>
                <a:cubicBezTo>
                  <a:pt x="8004" y="16421"/>
                  <a:pt x="8012" y="16421"/>
                  <a:pt x="8037" y="16421"/>
                </a:cubicBezTo>
              </a:path>
              <a:path w="3052" h="919">
                <a:moveTo>
                  <a:pt x="8210" y="16371"/>
                </a:moveTo>
                <a:cubicBezTo>
                  <a:pt x="8223" y="16318"/>
                  <a:pt x="8241" y="16307"/>
                  <a:pt x="8285" y="16346"/>
                </a:cubicBezTo>
                <a:cubicBezTo>
                  <a:pt x="8329" y="16385"/>
                  <a:pt x="8321" y="16442"/>
                  <a:pt x="8260" y="16446"/>
                </a:cubicBezTo>
                <a:cubicBezTo>
                  <a:pt x="8220" y="16449"/>
                  <a:pt x="8176" y="16446"/>
                  <a:pt x="8136" y="16446"/>
                </a:cubicBezTo>
              </a:path>
              <a:path w="3052" h="919">
                <a:moveTo>
                  <a:pt x="8458" y="16421"/>
                </a:moveTo>
                <a:cubicBezTo>
                  <a:pt x="8499" y="16468"/>
                  <a:pt x="8536" y="16521"/>
                  <a:pt x="8508" y="16594"/>
                </a:cubicBezTo>
                <a:cubicBezTo>
                  <a:pt x="8495" y="16628"/>
                  <a:pt x="8458" y="16656"/>
                  <a:pt x="8434" y="16669"/>
                </a:cubicBezTo>
              </a:path>
              <a:path w="3052" h="919">
                <a:moveTo>
                  <a:pt x="8731" y="16222"/>
                </a:moveTo>
                <a:cubicBezTo>
                  <a:pt x="8731" y="16214"/>
                  <a:pt x="8731" y="16205"/>
                  <a:pt x="8731" y="16197"/>
                </a:cubicBezTo>
                <a:cubicBezTo>
                  <a:pt x="8693" y="16210"/>
                  <a:pt x="8695" y="16272"/>
                  <a:pt x="8706" y="16321"/>
                </a:cubicBezTo>
                <a:cubicBezTo>
                  <a:pt x="8718" y="16375"/>
                  <a:pt x="8743" y="16433"/>
                  <a:pt x="8781" y="16446"/>
                </a:cubicBezTo>
                <a:cubicBezTo>
                  <a:pt x="8809" y="16389"/>
                  <a:pt x="8839" y="16325"/>
                  <a:pt x="8855" y="16272"/>
                </a:cubicBezTo>
                <a:cubicBezTo>
                  <a:pt x="8855" y="16264"/>
                  <a:pt x="8855" y="16255"/>
                  <a:pt x="8855" y="16247"/>
                </a:cubicBezTo>
                <a:cubicBezTo>
                  <a:pt x="8931" y="16291"/>
                  <a:pt x="8972" y="16361"/>
                  <a:pt x="9004" y="16446"/>
                </a:cubicBezTo>
                <a:cubicBezTo>
                  <a:pt x="9029" y="16513"/>
                  <a:pt x="9066" y="16681"/>
                  <a:pt x="9004" y="16743"/>
                </a:cubicBezTo>
                <a:cubicBezTo>
                  <a:pt x="8947" y="16800"/>
                  <a:pt x="8898" y="16799"/>
                  <a:pt x="8830" y="16768"/>
                </a:cubicBezTo>
                <a:cubicBezTo>
                  <a:pt x="8781" y="16743"/>
                  <a:pt x="8765" y="16735"/>
                  <a:pt x="8756" y="16694"/>
                </a:cubicBezTo>
              </a:path>
              <a:path w="3052" h="919">
                <a:moveTo>
                  <a:pt x="9128" y="16495"/>
                </a:moveTo>
                <a:cubicBezTo>
                  <a:pt x="9112" y="16463"/>
                  <a:pt x="9107" y="16427"/>
                  <a:pt x="9153" y="16421"/>
                </a:cubicBezTo>
                <a:cubicBezTo>
                  <a:pt x="9178" y="16421"/>
                  <a:pt x="9186" y="16421"/>
                  <a:pt x="9203" y="16421"/>
                </a:cubicBezTo>
                <a:cubicBezTo>
                  <a:pt x="9203" y="16494"/>
                  <a:pt x="9232" y="16566"/>
                  <a:pt x="9153" y="16594"/>
                </a:cubicBezTo>
                <a:cubicBezTo>
                  <a:pt x="9128" y="16594"/>
                  <a:pt x="9120" y="16594"/>
                  <a:pt x="9103" y="16594"/>
                </a:cubicBezTo>
              </a:path>
              <a:path w="3052" h="919">
                <a:moveTo>
                  <a:pt x="9302" y="16421"/>
                </a:moveTo>
                <a:cubicBezTo>
                  <a:pt x="9352" y="16435"/>
                  <a:pt x="9419" y="16470"/>
                  <a:pt x="9401" y="16545"/>
                </a:cubicBezTo>
                <a:cubicBezTo>
                  <a:pt x="9376" y="16594"/>
                  <a:pt x="9367" y="16611"/>
                  <a:pt x="9351" y="16644"/>
                </a:cubicBezTo>
              </a:path>
              <a:path w="3052" h="919">
                <a:moveTo>
                  <a:pt x="9525" y="16272"/>
                </a:moveTo>
                <a:cubicBezTo>
                  <a:pt x="9496" y="16234"/>
                  <a:pt x="9492" y="16198"/>
                  <a:pt x="9550" y="16173"/>
                </a:cubicBezTo>
                <a:cubicBezTo>
                  <a:pt x="9588" y="16157"/>
                  <a:pt x="9631" y="16148"/>
                  <a:pt x="9674" y="16148"/>
                </a:cubicBezTo>
                <a:cubicBezTo>
                  <a:pt x="9723" y="16148"/>
                  <a:pt x="9744" y="16168"/>
                  <a:pt x="9748" y="16222"/>
                </a:cubicBezTo>
                <a:cubicBezTo>
                  <a:pt x="9751" y="16263"/>
                  <a:pt x="9716" y="16359"/>
                  <a:pt x="9699" y="16396"/>
                </a:cubicBezTo>
                <a:cubicBezTo>
                  <a:pt x="9681" y="16434"/>
                  <a:pt x="9674" y="16447"/>
                  <a:pt x="9674" y="16495"/>
                </a:cubicBezTo>
                <a:cubicBezTo>
                  <a:pt x="9717" y="16495"/>
                  <a:pt x="9759" y="16483"/>
                  <a:pt x="9798" y="16470"/>
                </a:cubicBezTo>
                <a:cubicBezTo>
                  <a:pt x="9847" y="16446"/>
                  <a:pt x="9864" y="16438"/>
                  <a:pt x="9897" y="16421"/>
                </a:cubicBezTo>
              </a:path>
              <a:path w="3052" h="919">
                <a:moveTo>
                  <a:pt x="9996" y="16371"/>
                </a:moveTo>
                <a:cubicBezTo>
                  <a:pt x="9996" y="16363"/>
                  <a:pt x="9996" y="16354"/>
                  <a:pt x="9996" y="16346"/>
                </a:cubicBezTo>
                <a:cubicBezTo>
                  <a:pt x="10047" y="16346"/>
                  <a:pt x="10082" y="16337"/>
                  <a:pt x="10120" y="16371"/>
                </a:cubicBezTo>
                <a:cubicBezTo>
                  <a:pt x="10158" y="16405"/>
                  <a:pt x="10145" y="16448"/>
                  <a:pt x="10096" y="16470"/>
                </a:cubicBezTo>
                <a:cubicBezTo>
                  <a:pt x="10088" y="16470"/>
                  <a:pt x="10079" y="16470"/>
                  <a:pt x="10071" y="16470"/>
                </a:cubicBezTo>
              </a:path>
              <a:path w="3052" h="919">
                <a:moveTo>
                  <a:pt x="10269" y="16049"/>
                </a:moveTo>
                <a:cubicBezTo>
                  <a:pt x="10269" y="16021"/>
                  <a:pt x="10271" y="16010"/>
                  <a:pt x="10294" y="15999"/>
                </a:cubicBezTo>
                <a:cubicBezTo>
                  <a:pt x="10360" y="16015"/>
                  <a:pt x="10406" y="16076"/>
                  <a:pt x="10418" y="16148"/>
                </a:cubicBezTo>
                <a:cubicBezTo>
                  <a:pt x="10438" y="16269"/>
                  <a:pt x="10423" y="16398"/>
                  <a:pt x="10344" y="16495"/>
                </a:cubicBezTo>
                <a:cubicBezTo>
                  <a:pt x="10319" y="16520"/>
                  <a:pt x="10294" y="16545"/>
                  <a:pt x="10269" y="16570"/>
                </a:cubicBezTo>
              </a:path>
              <a:path w="3052" h="919">
                <a:moveTo>
                  <a:pt x="7417" y="15999"/>
                </a:moveTo>
                <a:cubicBezTo>
                  <a:pt x="7435" y="15936"/>
                  <a:pt x="7433" y="15919"/>
                  <a:pt x="7466" y="15875"/>
                </a:cubicBezTo>
                <a:cubicBezTo>
                  <a:pt x="7407" y="15948"/>
                  <a:pt x="7376" y="16054"/>
                  <a:pt x="7367" y="16148"/>
                </a:cubicBezTo>
                <a:cubicBezTo>
                  <a:pt x="7352" y="16297"/>
                  <a:pt x="7401" y="16451"/>
                  <a:pt x="7491" y="16570"/>
                </a:cubicBezTo>
                <a:cubicBezTo>
                  <a:pt x="7508" y="16586"/>
                  <a:pt x="7524" y="16603"/>
                  <a:pt x="7541" y="166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90960" y="5786280"/>
            <a:ext cx="152280" cy="18756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1088" y="16396"/>
                </a:moveTo>
                <a:cubicBezTo>
                  <a:pt x="11096" y="16379"/>
                  <a:pt x="11104" y="16363"/>
                  <a:pt x="11112" y="16346"/>
                </a:cubicBezTo>
                <a:cubicBezTo>
                  <a:pt x="11123" y="16391"/>
                  <a:pt x="11137" y="16416"/>
                  <a:pt x="11137" y="16470"/>
                </a:cubicBezTo>
                <a:cubicBezTo>
                  <a:pt x="11137" y="16478"/>
                  <a:pt x="11137" y="16487"/>
                  <a:pt x="11137" y="16495"/>
                </a:cubicBezTo>
              </a:path>
              <a:path w="422" h="522">
                <a:moveTo>
                  <a:pt x="11088" y="16197"/>
                </a:moveTo>
                <a:cubicBezTo>
                  <a:pt x="11088" y="16120"/>
                  <a:pt x="11065" y="16089"/>
                  <a:pt x="11112" y="16073"/>
                </a:cubicBezTo>
              </a:path>
              <a:path w="422" h="522">
                <a:moveTo>
                  <a:pt x="11460" y="16321"/>
                </a:moveTo>
                <a:cubicBezTo>
                  <a:pt x="11501" y="16321"/>
                  <a:pt x="11440" y="16358"/>
                  <a:pt x="11410" y="16371"/>
                </a:cubicBezTo>
                <a:cubicBezTo>
                  <a:pt x="11385" y="16371"/>
                  <a:pt x="11377" y="16371"/>
                  <a:pt x="11385" y="16396"/>
                </a:cubicBezTo>
                <a:cubicBezTo>
                  <a:pt x="11400" y="16441"/>
                  <a:pt x="11450" y="16425"/>
                  <a:pt x="11485" y="16470"/>
                </a:cubicBezTo>
                <a:cubicBezTo>
                  <a:pt x="11511" y="16503"/>
                  <a:pt x="11515" y="16537"/>
                  <a:pt x="11485" y="16570"/>
                </a:cubicBezTo>
                <a:cubicBezTo>
                  <a:pt x="11458" y="16600"/>
                  <a:pt x="11447" y="16594"/>
                  <a:pt x="11410" y="165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30800" y="5884920"/>
            <a:ext cx="81000" cy="88920"/>
          </a:xfrm>
          <a:custGeom>
            <a:avLst/>
            <a:gdLst/>
            <a:ahLst/>
            <a:rect l="l" t="t" r="r" b="b"/>
            <a:pathLst>
              <a:path w="225" h="249">
                <a:moveTo>
                  <a:pt x="12105" y="16396"/>
                </a:moveTo>
                <a:cubicBezTo>
                  <a:pt x="12127" y="16373"/>
                  <a:pt x="12135" y="16368"/>
                  <a:pt x="12129" y="16346"/>
                </a:cubicBezTo>
                <a:cubicBezTo>
                  <a:pt x="12081" y="16358"/>
                  <a:pt x="12048" y="16394"/>
                  <a:pt x="12030" y="16446"/>
                </a:cubicBezTo>
                <a:cubicBezTo>
                  <a:pt x="12015" y="16490"/>
                  <a:pt x="12032" y="16505"/>
                  <a:pt x="12055" y="16520"/>
                </a:cubicBezTo>
                <a:cubicBezTo>
                  <a:pt x="12081" y="16487"/>
                  <a:pt x="12103" y="16454"/>
                  <a:pt x="12129" y="16421"/>
                </a:cubicBezTo>
                <a:cubicBezTo>
                  <a:pt x="12186" y="16449"/>
                  <a:pt x="12167" y="16490"/>
                  <a:pt x="12204" y="16545"/>
                </a:cubicBezTo>
                <a:cubicBezTo>
                  <a:pt x="12229" y="16570"/>
                  <a:pt x="12237" y="16578"/>
                  <a:pt x="12254" y="165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99000" y="5830920"/>
            <a:ext cx="419040" cy="206280"/>
          </a:xfrm>
          <a:custGeom>
            <a:avLst/>
            <a:gdLst/>
            <a:ahLst/>
            <a:rect l="l" t="t" r="r" b="b"/>
            <a:pathLst>
              <a:path w="1167" h="572">
                <a:moveTo>
                  <a:pt x="12824" y="16346"/>
                </a:moveTo>
                <a:cubicBezTo>
                  <a:pt x="12824" y="16277"/>
                  <a:pt x="12824" y="16485"/>
                  <a:pt x="12824" y="16495"/>
                </a:cubicBezTo>
                <a:cubicBezTo>
                  <a:pt x="12824" y="16592"/>
                  <a:pt x="12839" y="16675"/>
                  <a:pt x="12849" y="16768"/>
                </a:cubicBezTo>
              </a:path>
              <a:path w="1167" h="572">
                <a:moveTo>
                  <a:pt x="12774" y="16421"/>
                </a:moveTo>
                <a:cubicBezTo>
                  <a:pt x="12774" y="16364"/>
                  <a:pt x="12768" y="16340"/>
                  <a:pt x="12824" y="16321"/>
                </a:cubicBezTo>
                <a:cubicBezTo>
                  <a:pt x="12848" y="16313"/>
                  <a:pt x="12893" y="16281"/>
                  <a:pt x="12923" y="16297"/>
                </a:cubicBezTo>
                <a:cubicBezTo>
                  <a:pt x="12964" y="16319"/>
                  <a:pt x="12992" y="16402"/>
                  <a:pt x="12973" y="16446"/>
                </a:cubicBezTo>
                <a:cubicBezTo>
                  <a:pt x="12956" y="16486"/>
                  <a:pt x="12880" y="16470"/>
                  <a:pt x="12849" y="16470"/>
                </a:cubicBezTo>
                <a:cubicBezTo>
                  <a:pt x="12841" y="16470"/>
                  <a:pt x="12832" y="16470"/>
                  <a:pt x="12824" y="16470"/>
                </a:cubicBezTo>
              </a:path>
              <a:path w="1167" h="572">
                <a:moveTo>
                  <a:pt x="13072" y="16446"/>
                </a:moveTo>
                <a:cubicBezTo>
                  <a:pt x="13072" y="16394"/>
                  <a:pt x="13067" y="16393"/>
                  <a:pt x="13097" y="16371"/>
                </a:cubicBezTo>
                <a:cubicBezTo>
                  <a:pt x="13156" y="16327"/>
                  <a:pt x="13191" y="16342"/>
                  <a:pt x="13196" y="16421"/>
                </a:cubicBezTo>
                <a:cubicBezTo>
                  <a:pt x="13199" y="16473"/>
                  <a:pt x="13176" y="16516"/>
                  <a:pt x="13122" y="16520"/>
                </a:cubicBezTo>
                <a:cubicBezTo>
                  <a:pt x="13063" y="16524"/>
                  <a:pt x="13060" y="16508"/>
                  <a:pt x="13022" y="16470"/>
                </a:cubicBezTo>
              </a:path>
              <a:path w="1167" h="572">
                <a:moveTo>
                  <a:pt x="13246" y="16371"/>
                </a:moveTo>
                <a:cubicBezTo>
                  <a:pt x="13278" y="16428"/>
                  <a:pt x="13287" y="16434"/>
                  <a:pt x="13295" y="16495"/>
                </a:cubicBezTo>
              </a:path>
              <a:path w="1167" h="572">
                <a:moveTo>
                  <a:pt x="13246" y="16222"/>
                </a:moveTo>
                <a:cubicBezTo>
                  <a:pt x="13254" y="16214"/>
                  <a:pt x="13263" y="16205"/>
                  <a:pt x="13271" y="16197"/>
                </a:cubicBezTo>
              </a:path>
              <a:path w="1167" h="572">
                <a:moveTo>
                  <a:pt x="13345" y="16371"/>
                </a:moveTo>
                <a:cubicBezTo>
                  <a:pt x="13352" y="16436"/>
                  <a:pt x="13370" y="16461"/>
                  <a:pt x="13370" y="16520"/>
                </a:cubicBezTo>
                <a:cubicBezTo>
                  <a:pt x="13377" y="16484"/>
                  <a:pt x="13381" y="16405"/>
                  <a:pt x="13395" y="16371"/>
                </a:cubicBezTo>
                <a:cubicBezTo>
                  <a:pt x="13417" y="16316"/>
                  <a:pt x="13458" y="16314"/>
                  <a:pt x="13494" y="16346"/>
                </a:cubicBezTo>
                <a:cubicBezTo>
                  <a:pt x="13529" y="16378"/>
                  <a:pt x="13557" y="16429"/>
                  <a:pt x="13568" y="16470"/>
                </a:cubicBezTo>
              </a:path>
              <a:path w="1167" h="572">
                <a:moveTo>
                  <a:pt x="13692" y="16272"/>
                </a:moveTo>
                <a:cubicBezTo>
                  <a:pt x="13692" y="16230"/>
                  <a:pt x="13692" y="16222"/>
                  <a:pt x="13692" y="16197"/>
                </a:cubicBezTo>
                <a:cubicBezTo>
                  <a:pt x="13731" y="16249"/>
                  <a:pt x="13700" y="16284"/>
                  <a:pt x="13717" y="16346"/>
                </a:cubicBezTo>
                <a:cubicBezTo>
                  <a:pt x="13732" y="16398"/>
                  <a:pt x="13762" y="16451"/>
                  <a:pt x="13791" y="16495"/>
                </a:cubicBezTo>
              </a:path>
              <a:path w="1167" h="572">
                <a:moveTo>
                  <a:pt x="13940" y="16396"/>
                </a:moveTo>
                <a:cubicBezTo>
                  <a:pt x="13849" y="16321"/>
                  <a:pt x="13887" y="16321"/>
                  <a:pt x="13791" y="163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97320" y="5857920"/>
            <a:ext cx="177840" cy="81000"/>
          </a:xfrm>
          <a:custGeom>
            <a:avLst/>
            <a:gdLst/>
            <a:ahLst/>
            <a:rect l="l" t="t" r="r" b="b"/>
            <a:pathLst>
              <a:path w="497" h="224">
                <a:moveTo>
                  <a:pt x="14436" y="16297"/>
                </a:moveTo>
                <a:cubicBezTo>
                  <a:pt x="14436" y="16309"/>
                  <a:pt x="14436" y="16413"/>
                  <a:pt x="14436" y="16346"/>
                </a:cubicBezTo>
                <a:cubicBezTo>
                  <a:pt x="14436" y="16315"/>
                  <a:pt x="14477" y="16301"/>
                  <a:pt x="14511" y="16297"/>
                </a:cubicBezTo>
                <a:cubicBezTo>
                  <a:pt x="14557" y="16292"/>
                  <a:pt x="14557" y="16383"/>
                  <a:pt x="14560" y="16421"/>
                </a:cubicBezTo>
                <a:cubicBezTo>
                  <a:pt x="14563" y="16464"/>
                  <a:pt x="14523" y="16491"/>
                  <a:pt x="14486" y="16495"/>
                </a:cubicBezTo>
                <a:cubicBezTo>
                  <a:pt x="14444" y="16500"/>
                  <a:pt x="14444" y="16477"/>
                  <a:pt x="14436" y="16446"/>
                </a:cubicBezTo>
              </a:path>
              <a:path w="497" h="224">
                <a:moveTo>
                  <a:pt x="14585" y="16321"/>
                </a:moveTo>
                <a:cubicBezTo>
                  <a:pt x="14608" y="16344"/>
                  <a:pt x="14661" y="16423"/>
                  <a:pt x="14709" y="16396"/>
                </a:cubicBezTo>
                <a:cubicBezTo>
                  <a:pt x="14753" y="16371"/>
                  <a:pt x="14733" y="16301"/>
                  <a:pt x="14784" y="16272"/>
                </a:cubicBezTo>
                <a:cubicBezTo>
                  <a:pt x="14842" y="16239"/>
                  <a:pt x="14883" y="16316"/>
                  <a:pt x="14908" y="16346"/>
                </a:cubicBezTo>
                <a:cubicBezTo>
                  <a:pt x="14916" y="16354"/>
                  <a:pt x="14924" y="16363"/>
                  <a:pt x="14932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10160" y="5705640"/>
            <a:ext cx="249120" cy="196560"/>
          </a:xfrm>
          <a:custGeom>
            <a:avLst/>
            <a:gdLst/>
            <a:ahLst/>
            <a:rect l="l" t="t" r="r" b="b"/>
            <a:pathLst>
              <a:path w="696" h="547">
                <a:moveTo>
                  <a:pt x="15304" y="16049"/>
                </a:moveTo>
                <a:cubicBezTo>
                  <a:pt x="15304" y="15989"/>
                  <a:pt x="15328" y="16149"/>
                  <a:pt x="15329" y="16173"/>
                </a:cubicBezTo>
                <a:cubicBezTo>
                  <a:pt x="15334" y="16280"/>
                  <a:pt x="15315" y="16308"/>
                  <a:pt x="15404" y="16371"/>
                </a:cubicBezTo>
              </a:path>
              <a:path w="696" h="547">
                <a:moveTo>
                  <a:pt x="15553" y="16247"/>
                </a:moveTo>
                <a:cubicBezTo>
                  <a:pt x="15474" y="16221"/>
                  <a:pt x="15412" y="16197"/>
                  <a:pt x="15329" y="16197"/>
                </a:cubicBezTo>
                <a:cubicBezTo>
                  <a:pt x="15321" y="16197"/>
                  <a:pt x="15312" y="16197"/>
                  <a:pt x="15304" y="16197"/>
                </a:cubicBezTo>
              </a:path>
              <a:path w="696" h="547">
                <a:moveTo>
                  <a:pt x="15503" y="15850"/>
                </a:moveTo>
                <a:cubicBezTo>
                  <a:pt x="15544" y="15850"/>
                  <a:pt x="15552" y="15850"/>
                  <a:pt x="15577" y="15850"/>
                </a:cubicBezTo>
                <a:cubicBezTo>
                  <a:pt x="15577" y="15912"/>
                  <a:pt x="15560" y="15967"/>
                  <a:pt x="15553" y="16024"/>
                </a:cubicBezTo>
                <a:cubicBezTo>
                  <a:pt x="15542" y="16118"/>
                  <a:pt x="15531" y="16268"/>
                  <a:pt x="15577" y="16346"/>
                </a:cubicBezTo>
                <a:cubicBezTo>
                  <a:pt x="15577" y="16291"/>
                  <a:pt x="15589" y="16275"/>
                  <a:pt x="15602" y="16222"/>
                </a:cubicBezTo>
                <a:cubicBezTo>
                  <a:pt x="15602" y="16214"/>
                  <a:pt x="15602" y="16205"/>
                  <a:pt x="15602" y="16197"/>
                </a:cubicBezTo>
                <a:cubicBezTo>
                  <a:pt x="15650" y="16209"/>
                  <a:pt x="15659" y="16245"/>
                  <a:pt x="15701" y="16272"/>
                </a:cubicBezTo>
                <a:cubicBezTo>
                  <a:pt x="15710" y="16278"/>
                  <a:pt x="15807" y="16320"/>
                  <a:pt x="15825" y="16297"/>
                </a:cubicBezTo>
                <a:cubicBezTo>
                  <a:pt x="15825" y="16272"/>
                  <a:pt x="15825" y="16264"/>
                  <a:pt x="15825" y="16247"/>
                </a:cubicBezTo>
                <a:cubicBezTo>
                  <a:pt x="15757" y="16271"/>
                  <a:pt x="15828" y="16293"/>
                  <a:pt x="15850" y="16321"/>
                </a:cubicBezTo>
                <a:cubicBezTo>
                  <a:pt x="15903" y="16389"/>
                  <a:pt x="15912" y="16396"/>
                  <a:pt x="15999" y="163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29200" y="5749920"/>
            <a:ext cx="401760" cy="162000"/>
          </a:xfrm>
          <a:custGeom>
            <a:avLst/>
            <a:gdLst/>
            <a:ahLst/>
            <a:rect l="l" t="t" r="r" b="b"/>
            <a:pathLst>
              <a:path w="1118" h="448">
                <a:moveTo>
                  <a:pt x="16495" y="16024"/>
                </a:moveTo>
                <a:cubicBezTo>
                  <a:pt x="16461" y="15978"/>
                  <a:pt x="16470" y="15962"/>
                  <a:pt x="16470" y="16024"/>
                </a:cubicBezTo>
                <a:cubicBezTo>
                  <a:pt x="16470" y="16107"/>
                  <a:pt x="16480" y="16224"/>
                  <a:pt x="16520" y="16297"/>
                </a:cubicBezTo>
                <a:cubicBezTo>
                  <a:pt x="16567" y="16382"/>
                  <a:pt x="16626" y="16414"/>
                  <a:pt x="16718" y="16421"/>
                </a:cubicBezTo>
                <a:cubicBezTo>
                  <a:pt x="16753" y="16421"/>
                  <a:pt x="16771" y="16416"/>
                  <a:pt x="16793" y="16396"/>
                </a:cubicBezTo>
              </a:path>
              <a:path w="1118" h="448">
                <a:moveTo>
                  <a:pt x="16793" y="16346"/>
                </a:moveTo>
                <a:cubicBezTo>
                  <a:pt x="16793" y="16231"/>
                  <a:pt x="16793" y="16348"/>
                  <a:pt x="16793" y="16371"/>
                </a:cubicBezTo>
              </a:path>
              <a:path w="1118" h="448">
                <a:moveTo>
                  <a:pt x="16768" y="16222"/>
                </a:moveTo>
                <a:cubicBezTo>
                  <a:pt x="16749" y="16165"/>
                  <a:pt x="16723" y="16140"/>
                  <a:pt x="16768" y="16148"/>
                </a:cubicBezTo>
              </a:path>
              <a:path w="1118" h="448">
                <a:moveTo>
                  <a:pt x="16842" y="16222"/>
                </a:moveTo>
                <a:cubicBezTo>
                  <a:pt x="16869" y="16289"/>
                  <a:pt x="16917" y="16314"/>
                  <a:pt x="16942" y="16371"/>
                </a:cubicBezTo>
                <a:cubicBezTo>
                  <a:pt x="16956" y="16402"/>
                  <a:pt x="16956" y="16319"/>
                  <a:pt x="16966" y="16272"/>
                </a:cubicBezTo>
                <a:cubicBezTo>
                  <a:pt x="16977" y="16221"/>
                  <a:pt x="16984" y="16179"/>
                  <a:pt x="17041" y="16173"/>
                </a:cubicBezTo>
                <a:cubicBezTo>
                  <a:pt x="17101" y="16167"/>
                  <a:pt x="17095" y="16264"/>
                  <a:pt x="17115" y="16297"/>
                </a:cubicBezTo>
                <a:cubicBezTo>
                  <a:pt x="17146" y="16347"/>
                  <a:pt x="17174" y="16356"/>
                  <a:pt x="17214" y="16321"/>
                </a:cubicBezTo>
                <a:cubicBezTo>
                  <a:pt x="17264" y="16277"/>
                  <a:pt x="17264" y="16235"/>
                  <a:pt x="17264" y="16173"/>
                </a:cubicBezTo>
                <a:cubicBezTo>
                  <a:pt x="17264" y="16078"/>
                  <a:pt x="17285" y="16110"/>
                  <a:pt x="17264" y="16148"/>
                </a:cubicBezTo>
                <a:cubicBezTo>
                  <a:pt x="17238" y="16194"/>
                  <a:pt x="17213" y="16271"/>
                  <a:pt x="17264" y="16321"/>
                </a:cubicBezTo>
                <a:cubicBezTo>
                  <a:pt x="17319" y="16376"/>
                  <a:pt x="17430" y="16352"/>
                  <a:pt x="17487" y="16346"/>
                </a:cubicBezTo>
                <a:cubicBezTo>
                  <a:pt x="17548" y="16340"/>
                  <a:pt x="17544" y="16339"/>
                  <a:pt x="17587" y="162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43120" y="6242040"/>
            <a:ext cx="411120" cy="428760"/>
          </a:xfrm>
          <a:custGeom>
            <a:avLst/>
            <a:gdLst/>
            <a:ahLst/>
            <a:rect l="l" t="t" r="r" b="b"/>
            <a:pathLst>
              <a:path w="1142" h="1192">
                <a:moveTo>
                  <a:pt x="7665" y="17686"/>
                </a:moveTo>
                <a:cubicBezTo>
                  <a:pt x="7687" y="17709"/>
                  <a:pt x="7692" y="17717"/>
                  <a:pt x="7714" y="17711"/>
                </a:cubicBezTo>
                <a:cubicBezTo>
                  <a:pt x="7751" y="17662"/>
                  <a:pt x="7779" y="17576"/>
                  <a:pt x="7789" y="17512"/>
                </a:cubicBezTo>
                <a:cubicBezTo>
                  <a:pt x="7799" y="17446"/>
                  <a:pt x="7790" y="17391"/>
                  <a:pt x="7764" y="17338"/>
                </a:cubicBezTo>
                <a:cubicBezTo>
                  <a:pt x="7720" y="17412"/>
                  <a:pt x="7739" y="17521"/>
                  <a:pt x="7739" y="17611"/>
                </a:cubicBezTo>
                <a:cubicBezTo>
                  <a:pt x="7739" y="17710"/>
                  <a:pt x="7757" y="17837"/>
                  <a:pt x="7863" y="17884"/>
                </a:cubicBezTo>
                <a:cubicBezTo>
                  <a:pt x="7912" y="17906"/>
                  <a:pt x="7954" y="17861"/>
                  <a:pt x="7987" y="17835"/>
                </a:cubicBezTo>
              </a:path>
              <a:path w="1142" h="1192">
                <a:moveTo>
                  <a:pt x="7764" y="17959"/>
                </a:moveTo>
                <a:cubicBezTo>
                  <a:pt x="7764" y="18004"/>
                  <a:pt x="7785" y="18018"/>
                  <a:pt x="7789" y="18058"/>
                </a:cubicBezTo>
                <a:cubicBezTo>
                  <a:pt x="7795" y="18110"/>
                  <a:pt x="7789" y="18113"/>
                  <a:pt x="7789" y="18058"/>
                </a:cubicBezTo>
                <a:cubicBezTo>
                  <a:pt x="7789" y="18033"/>
                  <a:pt x="7789" y="18025"/>
                  <a:pt x="7789" y="18008"/>
                </a:cubicBezTo>
                <a:cubicBezTo>
                  <a:pt x="7834" y="18008"/>
                  <a:pt x="7848" y="18029"/>
                  <a:pt x="7888" y="18033"/>
                </a:cubicBezTo>
                <a:cubicBezTo>
                  <a:pt x="7947" y="18040"/>
                  <a:pt x="7938" y="17971"/>
                  <a:pt x="7962" y="17934"/>
                </a:cubicBezTo>
                <a:cubicBezTo>
                  <a:pt x="7985" y="17911"/>
                  <a:pt x="7993" y="17907"/>
                  <a:pt x="7987" y="17884"/>
                </a:cubicBezTo>
                <a:cubicBezTo>
                  <a:pt x="8051" y="17935"/>
                  <a:pt x="8065" y="17966"/>
                  <a:pt x="8111" y="18033"/>
                </a:cubicBezTo>
                <a:cubicBezTo>
                  <a:pt x="8119" y="18041"/>
                  <a:pt x="8128" y="18050"/>
                  <a:pt x="8136" y="18058"/>
                </a:cubicBezTo>
              </a:path>
              <a:path w="1142" h="1192">
                <a:moveTo>
                  <a:pt x="7764" y="18306"/>
                </a:moveTo>
                <a:cubicBezTo>
                  <a:pt x="7764" y="18351"/>
                  <a:pt x="7757" y="18462"/>
                  <a:pt x="7789" y="18430"/>
                </a:cubicBezTo>
                <a:cubicBezTo>
                  <a:pt x="7807" y="18412"/>
                  <a:pt x="7809" y="18339"/>
                  <a:pt x="7838" y="18306"/>
                </a:cubicBezTo>
                <a:cubicBezTo>
                  <a:pt x="7873" y="18267"/>
                  <a:pt x="7947" y="18266"/>
                  <a:pt x="7987" y="18306"/>
                </a:cubicBezTo>
                <a:cubicBezTo>
                  <a:pt x="8011" y="18354"/>
                  <a:pt x="8018" y="18370"/>
                  <a:pt x="8062" y="18355"/>
                </a:cubicBezTo>
              </a:path>
              <a:path w="1142" h="1192">
                <a:moveTo>
                  <a:pt x="8086" y="17413"/>
                </a:moveTo>
                <a:cubicBezTo>
                  <a:pt x="8161" y="17381"/>
                  <a:pt x="8199" y="17367"/>
                  <a:pt x="8260" y="17438"/>
                </a:cubicBezTo>
                <a:cubicBezTo>
                  <a:pt x="8367" y="17562"/>
                  <a:pt x="8422" y="17755"/>
                  <a:pt x="8458" y="17909"/>
                </a:cubicBezTo>
                <a:cubicBezTo>
                  <a:pt x="8497" y="18076"/>
                  <a:pt x="8512" y="18260"/>
                  <a:pt x="8409" y="18405"/>
                </a:cubicBezTo>
                <a:cubicBezTo>
                  <a:pt x="8353" y="18485"/>
                  <a:pt x="8320" y="18489"/>
                  <a:pt x="8235" y="18504"/>
                </a:cubicBezTo>
              </a:path>
              <a:path w="1142" h="1192">
                <a:moveTo>
                  <a:pt x="7367" y="17462"/>
                </a:moveTo>
                <a:cubicBezTo>
                  <a:pt x="7367" y="17446"/>
                  <a:pt x="7367" y="17429"/>
                  <a:pt x="7367" y="17413"/>
                </a:cubicBezTo>
                <a:cubicBezTo>
                  <a:pt x="7348" y="17523"/>
                  <a:pt x="7342" y="17620"/>
                  <a:pt x="7342" y="17735"/>
                </a:cubicBezTo>
                <a:cubicBezTo>
                  <a:pt x="7342" y="17946"/>
                  <a:pt x="7386" y="18135"/>
                  <a:pt x="7466" y="18331"/>
                </a:cubicBezTo>
                <a:cubicBezTo>
                  <a:pt x="7497" y="18406"/>
                  <a:pt x="7528" y="18451"/>
                  <a:pt x="7541" y="185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97160" y="6323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8954" y="17909"/>
                </a:moveTo>
                <a:cubicBezTo>
                  <a:pt x="8954" y="17901"/>
                  <a:pt x="8954" y="17892"/>
                  <a:pt x="8954" y="17884"/>
                </a:cubicBezTo>
                <a:cubicBezTo>
                  <a:pt x="8954" y="17930"/>
                  <a:pt x="8974" y="17943"/>
                  <a:pt x="8979" y="17983"/>
                </a:cubicBezTo>
                <a:cubicBezTo>
                  <a:pt x="8979" y="18008"/>
                  <a:pt x="8979" y="18016"/>
                  <a:pt x="8979" y="18033"/>
                </a:cubicBezTo>
              </a:path>
              <a:path w="299" h="472">
                <a:moveTo>
                  <a:pt x="8880" y="17587"/>
                </a:moveTo>
                <a:cubicBezTo>
                  <a:pt x="8880" y="17552"/>
                  <a:pt x="8885" y="17553"/>
                  <a:pt x="8905" y="17611"/>
                </a:cubicBezTo>
              </a:path>
              <a:path w="299" h="472">
                <a:moveTo>
                  <a:pt x="9128" y="17785"/>
                </a:moveTo>
                <a:cubicBezTo>
                  <a:pt x="9115" y="17838"/>
                  <a:pt x="9091" y="17834"/>
                  <a:pt x="9054" y="17859"/>
                </a:cubicBezTo>
                <a:cubicBezTo>
                  <a:pt x="9046" y="17867"/>
                  <a:pt x="9037" y="17876"/>
                  <a:pt x="9029" y="17884"/>
                </a:cubicBezTo>
                <a:cubicBezTo>
                  <a:pt x="9039" y="17913"/>
                  <a:pt x="9071" y="17927"/>
                  <a:pt x="9103" y="17959"/>
                </a:cubicBezTo>
                <a:cubicBezTo>
                  <a:pt x="9140" y="17996"/>
                  <a:pt x="9164" y="17977"/>
                  <a:pt x="9178" y="18033"/>
                </a:cubicBezTo>
                <a:cubicBezTo>
                  <a:pt x="9145" y="18033"/>
                  <a:pt x="9112" y="18033"/>
                  <a:pt x="9079" y="180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6286680"/>
            <a:ext cx="250920" cy="187200"/>
          </a:xfrm>
          <a:custGeom>
            <a:avLst/>
            <a:gdLst/>
            <a:ahLst/>
            <a:rect l="l" t="t" r="r" b="b"/>
            <a:pathLst>
              <a:path w="696" h="522">
                <a:moveTo>
                  <a:pt x="9649" y="17661"/>
                </a:moveTo>
                <a:cubicBezTo>
                  <a:pt x="9657" y="17644"/>
                  <a:pt x="9666" y="17628"/>
                  <a:pt x="9674" y="17611"/>
                </a:cubicBezTo>
                <a:cubicBezTo>
                  <a:pt x="9625" y="17660"/>
                  <a:pt x="9608" y="17712"/>
                  <a:pt x="9599" y="17785"/>
                </a:cubicBezTo>
                <a:cubicBezTo>
                  <a:pt x="9586" y="17894"/>
                  <a:pt x="9624" y="17925"/>
                  <a:pt x="9699" y="17983"/>
                </a:cubicBezTo>
              </a:path>
              <a:path w="696" h="522">
                <a:moveTo>
                  <a:pt x="9847" y="17884"/>
                </a:moveTo>
                <a:cubicBezTo>
                  <a:pt x="9794" y="17838"/>
                  <a:pt x="9760" y="17781"/>
                  <a:pt x="9699" y="17835"/>
                </a:cubicBezTo>
                <a:cubicBezTo>
                  <a:pt x="9676" y="17857"/>
                  <a:pt x="9671" y="17865"/>
                  <a:pt x="9649" y="17859"/>
                </a:cubicBezTo>
              </a:path>
              <a:path w="696" h="522">
                <a:moveTo>
                  <a:pt x="9847" y="17537"/>
                </a:moveTo>
                <a:cubicBezTo>
                  <a:pt x="9869" y="17493"/>
                  <a:pt x="9872" y="17481"/>
                  <a:pt x="9897" y="17462"/>
                </a:cubicBezTo>
                <a:cubicBezTo>
                  <a:pt x="9854" y="17548"/>
                  <a:pt x="9847" y="17590"/>
                  <a:pt x="9847" y="17686"/>
                </a:cubicBezTo>
                <a:cubicBezTo>
                  <a:pt x="9847" y="17763"/>
                  <a:pt x="9837" y="17813"/>
                  <a:pt x="9823" y="17884"/>
                </a:cubicBezTo>
                <a:cubicBezTo>
                  <a:pt x="9863" y="17874"/>
                  <a:pt x="9879" y="17840"/>
                  <a:pt x="9922" y="17835"/>
                </a:cubicBezTo>
                <a:cubicBezTo>
                  <a:pt x="9967" y="17830"/>
                  <a:pt x="9991" y="17837"/>
                  <a:pt x="9996" y="17884"/>
                </a:cubicBezTo>
                <a:cubicBezTo>
                  <a:pt x="9996" y="17909"/>
                  <a:pt x="9996" y="17917"/>
                  <a:pt x="9996" y="17934"/>
                </a:cubicBezTo>
              </a:path>
              <a:path w="696" h="522">
                <a:moveTo>
                  <a:pt x="9996" y="17859"/>
                </a:moveTo>
                <a:cubicBezTo>
                  <a:pt x="10049" y="17837"/>
                  <a:pt x="10104" y="17843"/>
                  <a:pt x="10145" y="17810"/>
                </a:cubicBezTo>
                <a:cubicBezTo>
                  <a:pt x="10177" y="17784"/>
                  <a:pt x="10170" y="17772"/>
                  <a:pt x="10170" y="17735"/>
                </a:cubicBezTo>
                <a:cubicBezTo>
                  <a:pt x="10118" y="17735"/>
                  <a:pt x="10120" y="17733"/>
                  <a:pt x="10120" y="17785"/>
                </a:cubicBezTo>
                <a:cubicBezTo>
                  <a:pt x="10120" y="17847"/>
                  <a:pt x="10123" y="17926"/>
                  <a:pt x="10195" y="17934"/>
                </a:cubicBezTo>
                <a:cubicBezTo>
                  <a:pt x="10246" y="17940"/>
                  <a:pt x="10259" y="17919"/>
                  <a:pt x="10294" y="178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75040" y="6303960"/>
            <a:ext cx="777960" cy="189000"/>
          </a:xfrm>
          <a:custGeom>
            <a:avLst/>
            <a:gdLst/>
            <a:ahLst/>
            <a:rect l="l" t="t" r="r" b="b"/>
            <a:pathLst>
              <a:path w="2159" h="522">
                <a:moveTo>
                  <a:pt x="10840" y="17760"/>
                </a:moveTo>
                <a:cubicBezTo>
                  <a:pt x="10820" y="17701"/>
                  <a:pt x="10776" y="17766"/>
                  <a:pt x="10765" y="17810"/>
                </a:cubicBezTo>
                <a:cubicBezTo>
                  <a:pt x="10751" y="17869"/>
                  <a:pt x="10770" y="17931"/>
                  <a:pt x="10790" y="17983"/>
                </a:cubicBezTo>
                <a:cubicBezTo>
                  <a:pt x="10836" y="17960"/>
                  <a:pt x="10902" y="17842"/>
                  <a:pt x="10914" y="17785"/>
                </a:cubicBezTo>
                <a:cubicBezTo>
                  <a:pt x="10929" y="17713"/>
                  <a:pt x="10914" y="17612"/>
                  <a:pt x="10914" y="17537"/>
                </a:cubicBezTo>
                <a:cubicBezTo>
                  <a:pt x="10914" y="17490"/>
                  <a:pt x="10930" y="17675"/>
                  <a:pt x="10939" y="17711"/>
                </a:cubicBezTo>
                <a:cubicBezTo>
                  <a:pt x="10963" y="17806"/>
                  <a:pt x="10983" y="17924"/>
                  <a:pt x="11038" y="18008"/>
                </a:cubicBezTo>
                <a:cubicBezTo>
                  <a:pt x="11061" y="18031"/>
                  <a:pt x="11065" y="18039"/>
                  <a:pt x="11088" y="18033"/>
                </a:cubicBezTo>
              </a:path>
              <a:path w="2159" h="522">
                <a:moveTo>
                  <a:pt x="11137" y="17835"/>
                </a:moveTo>
                <a:cubicBezTo>
                  <a:pt x="11137" y="17879"/>
                  <a:pt x="11152" y="17895"/>
                  <a:pt x="11162" y="17934"/>
                </a:cubicBezTo>
              </a:path>
              <a:path w="2159" h="522">
                <a:moveTo>
                  <a:pt x="11112" y="17760"/>
                </a:moveTo>
                <a:lnTo>
                  <a:pt x="11112" y="17760"/>
                </a:lnTo>
                <a:lnTo>
                  <a:pt x="11112" y="17760"/>
                </a:lnTo>
              </a:path>
              <a:path w="2159" h="522">
                <a:moveTo>
                  <a:pt x="11361" y="17884"/>
                </a:moveTo>
                <a:cubicBezTo>
                  <a:pt x="11383" y="17907"/>
                  <a:pt x="11391" y="17912"/>
                  <a:pt x="11385" y="17934"/>
                </a:cubicBezTo>
                <a:cubicBezTo>
                  <a:pt x="11358" y="17896"/>
                  <a:pt x="11361" y="17882"/>
                  <a:pt x="11361" y="17835"/>
                </a:cubicBezTo>
                <a:cubicBezTo>
                  <a:pt x="11361" y="17827"/>
                  <a:pt x="11361" y="17818"/>
                  <a:pt x="11361" y="17810"/>
                </a:cubicBezTo>
                <a:cubicBezTo>
                  <a:pt x="11406" y="17810"/>
                  <a:pt x="11420" y="17831"/>
                  <a:pt x="11460" y="17835"/>
                </a:cubicBezTo>
                <a:cubicBezTo>
                  <a:pt x="11485" y="17835"/>
                  <a:pt x="11493" y="17835"/>
                  <a:pt x="11509" y="17835"/>
                </a:cubicBezTo>
              </a:path>
              <a:path w="2159" h="522">
                <a:moveTo>
                  <a:pt x="11559" y="17835"/>
                </a:moveTo>
                <a:cubicBezTo>
                  <a:pt x="11563" y="17851"/>
                  <a:pt x="11603" y="17922"/>
                  <a:pt x="11633" y="17884"/>
                </a:cubicBezTo>
                <a:cubicBezTo>
                  <a:pt x="11662" y="17847"/>
                  <a:pt x="11661" y="17822"/>
                  <a:pt x="11633" y="17785"/>
                </a:cubicBezTo>
                <a:cubicBezTo>
                  <a:pt x="11573" y="17800"/>
                  <a:pt x="11584" y="17824"/>
                  <a:pt x="11584" y="17884"/>
                </a:cubicBezTo>
                <a:cubicBezTo>
                  <a:pt x="11584" y="17937"/>
                  <a:pt x="11571" y="17976"/>
                  <a:pt x="11633" y="17983"/>
                </a:cubicBezTo>
                <a:cubicBezTo>
                  <a:pt x="11658" y="17983"/>
                  <a:pt x="11666" y="17983"/>
                  <a:pt x="11683" y="17983"/>
                </a:cubicBezTo>
              </a:path>
              <a:path w="2159" h="522">
                <a:moveTo>
                  <a:pt x="11857" y="17810"/>
                </a:moveTo>
                <a:cubicBezTo>
                  <a:pt x="11857" y="17802"/>
                  <a:pt x="11857" y="17793"/>
                  <a:pt x="11857" y="17785"/>
                </a:cubicBezTo>
                <a:cubicBezTo>
                  <a:pt x="11817" y="17798"/>
                  <a:pt x="11832" y="17833"/>
                  <a:pt x="11832" y="17884"/>
                </a:cubicBezTo>
                <a:cubicBezTo>
                  <a:pt x="11832" y="17922"/>
                  <a:pt x="11855" y="17987"/>
                  <a:pt x="11906" y="17959"/>
                </a:cubicBezTo>
                <a:cubicBezTo>
                  <a:pt x="12001" y="17906"/>
                  <a:pt x="11979" y="17878"/>
                  <a:pt x="12005" y="17785"/>
                </a:cubicBezTo>
                <a:cubicBezTo>
                  <a:pt x="12022" y="17724"/>
                  <a:pt x="12019" y="17659"/>
                  <a:pt x="12055" y="17611"/>
                </a:cubicBezTo>
                <a:cubicBezTo>
                  <a:pt x="12055" y="17570"/>
                  <a:pt x="12055" y="17645"/>
                  <a:pt x="12055" y="17686"/>
                </a:cubicBezTo>
                <a:cubicBezTo>
                  <a:pt x="12055" y="17779"/>
                  <a:pt x="12004" y="17845"/>
                  <a:pt x="12055" y="17934"/>
                </a:cubicBezTo>
                <a:cubicBezTo>
                  <a:pt x="12080" y="17959"/>
                  <a:pt x="12088" y="17967"/>
                  <a:pt x="12105" y="17983"/>
                </a:cubicBezTo>
              </a:path>
              <a:path w="2159" h="522">
                <a:moveTo>
                  <a:pt x="12204" y="17884"/>
                </a:moveTo>
                <a:cubicBezTo>
                  <a:pt x="12196" y="17854"/>
                  <a:pt x="12173" y="17811"/>
                  <a:pt x="12129" y="17835"/>
                </a:cubicBezTo>
                <a:cubicBezTo>
                  <a:pt x="12095" y="17854"/>
                  <a:pt x="12061" y="17884"/>
                  <a:pt x="12030" y="17909"/>
                </a:cubicBezTo>
              </a:path>
              <a:path w="2159" h="522">
                <a:moveTo>
                  <a:pt x="12129" y="17884"/>
                </a:moveTo>
                <a:cubicBezTo>
                  <a:pt x="12184" y="17884"/>
                  <a:pt x="12250" y="17870"/>
                  <a:pt x="12278" y="17934"/>
                </a:cubicBezTo>
                <a:cubicBezTo>
                  <a:pt x="12278" y="17942"/>
                  <a:pt x="12278" y="17951"/>
                  <a:pt x="12278" y="17959"/>
                </a:cubicBezTo>
              </a:path>
              <a:path w="2159" h="522">
                <a:moveTo>
                  <a:pt x="12254" y="17735"/>
                </a:moveTo>
                <a:cubicBezTo>
                  <a:pt x="12254" y="17606"/>
                  <a:pt x="12229" y="17611"/>
                  <a:pt x="12303" y="17636"/>
                </a:cubicBezTo>
                <a:cubicBezTo>
                  <a:pt x="12311" y="17636"/>
                  <a:pt x="12320" y="17636"/>
                  <a:pt x="12328" y="17636"/>
                </a:cubicBezTo>
              </a:path>
              <a:path w="2159" h="522">
                <a:moveTo>
                  <a:pt x="12378" y="17835"/>
                </a:moveTo>
                <a:cubicBezTo>
                  <a:pt x="12430" y="17857"/>
                  <a:pt x="12448" y="17859"/>
                  <a:pt x="12502" y="17859"/>
                </a:cubicBezTo>
                <a:cubicBezTo>
                  <a:pt x="12510" y="17859"/>
                  <a:pt x="12518" y="17859"/>
                  <a:pt x="12526" y="17859"/>
                </a:cubicBezTo>
                <a:cubicBezTo>
                  <a:pt x="12526" y="17902"/>
                  <a:pt x="12549" y="18009"/>
                  <a:pt x="12502" y="18033"/>
                </a:cubicBezTo>
                <a:cubicBezTo>
                  <a:pt x="12476" y="18046"/>
                  <a:pt x="12415" y="18034"/>
                  <a:pt x="12402" y="18008"/>
                </a:cubicBezTo>
                <a:cubicBezTo>
                  <a:pt x="12382" y="17968"/>
                  <a:pt x="12401" y="17888"/>
                  <a:pt x="12427" y="17859"/>
                </a:cubicBezTo>
                <a:cubicBezTo>
                  <a:pt x="12476" y="17805"/>
                  <a:pt x="12483" y="17857"/>
                  <a:pt x="12526" y="17884"/>
                </a:cubicBezTo>
                <a:cubicBezTo>
                  <a:pt x="12576" y="17916"/>
                  <a:pt x="12609" y="17921"/>
                  <a:pt x="12650" y="17884"/>
                </a:cubicBezTo>
                <a:cubicBezTo>
                  <a:pt x="12681" y="17856"/>
                  <a:pt x="12747" y="17775"/>
                  <a:pt x="12799" y="17810"/>
                </a:cubicBezTo>
                <a:cubicBezTo>
                  <a:pt x="12835" y="17834"/>
                  <a:pt x="12886" y="17897"/>
                  <a:pt x="12923" y="179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30840" y="6348240"/>
            <a:ext cx="669960" cy="152640"/>
          </a:xfrm>
          <a:custGeom>
            <a:avLst/>
            <a:gdLst/>
            <a:ahLst/>
            <a:rect l="l" t="t" r="r" b="b"/>
            <a:pathLst>
              <a:path w="1862" h="423">
                <a:moveTo>
                  <a:pt x="13419" y="17835"/>
                </a:moveTo>
                <a:cubicBezTo>
                  <a:pt x="13419" y="17783"/>
                  <a:pt x="13461" y="17884"/>
                  <a:pt x="13469" y="17909"/>
                </a:cubicBezTo>
                <a:cubicBezTo>
                  <a:pt x="13477" y="17934"/>
                  <a:pt x="13491" y="18031"/>
                  <a:pt x="13543" y="18008"/>
                </a:cubicBezTo>
                <a:cubicBezTo>
                  <a:pt x="13587" y="17988"/>
                  <a:pt x="13633" y="17902"/>
                  <a:pt x="13643" y="17859"/>
                </a:cubicBezTo>
                <a:cubicBezTo>
                  <a:pt x="13643" y="17818"/>
                  <a:pt x="13643" y="17810"/>
                  <a:pt x="13643" y="17785"/>
                </a:cubicBezTo>
              </a:path>
              <a:path w="1862" h="423">
                <a:moveTo>
                  <a:pt x="13717" y="17859"/>
                </a:moveTo>
                <a:cubicBezTo>
                  <a:pt x="13784" y="17893"/>
                  <a:pt x="13821" y="17931"/>
                  <a:pt x="13891" y="17884"/>
                </a:cubicBezTo>
                <a:cubicBezTo>
                  <a:pt x="13936" y="17854"/>
                  <a:pt x="13911" y="17775"/>
                  <a:pt x="13866" y="17785"/>
                </a:cubicBezTo>
                <a:cubicBezTo>
                  <a:pt x="13819" y="17795"/>
                  <a:pt x="13805" y="17872"/>
                  <a:pt x="13816" y="17909"/>
                </a:cubicBezTo>
                <a:cubicBezTo>
                  <a:pt x="13829" y="17954"/>
                  <a:pt x="13884" y="18023"/>
                  <a:pt x="13940" y="18008"/>
                </a:cubicBezTo>
                <a:cubicBezTo>
                  <a:pt x="13990" y="17983"/>
                  <a:pt x="14006" y="17975"/>
                  <a:pt x="14039" y="17959"/>
                </a:cubicBezTo>
              </a:path>
              <a:path w="1862" h="423">
                <a:moveTo>
                  <a:pt x="14213" y="17810"/>
                </a:moveTo>
                <a:cubicBezTo>
                  <a:pt x="14203" y="17841"/>
                  <a:pt x="14165" y="17875"/>
                  <a:pt x="14188" y="17934"/>
                </a:cubicBezTo>
                <a:cubicBezTo>
                  <a:pt x="14214" y="18002"/>
                  <a:pt x="14247" y="18008"/>
                  <a:pt x="14312" y="18008"/>
                </a:cubicBezTo>
                <a:cubicBezTo>
                  <a:pt x="14409" y="18008"/>
                  <a:pt x="14449" y="17933"/>
                  <a:pt x="14486" y="17859"/>
                </a:cubicBezTo>
                <a:cubicBezTo>
                  <a:pt x="14517" y="17797"/>
                  <a:pt x="14518" y="17720"/>
                  <a:pt x="14536" y="17661"/>
                </a:cubicBezTo>
                <a:cubicBezTo>
                  <a:pt x="14536" y="17636"/>
                  <a:pt x="14536" y="17628"/>
                  <a:pt x="14511" y="17636"/>
                </a:cubicBezTo>
                <a:cubicBezTo>
                  <a:pt x="14511" y="17744"/>
                  <a:pt x="14493" y="17861"/>
                  <a:pt x="14536" y="17959"/>
                </a:cubicBezTo>
                <a:cubicBezTo>
                  <a:pt x="14562" y="18013"/>
                  <a:pt x="14574" y="18033"/>
                  <a:pt x="14610" y="18058"/>
                </a:cubicBezTo>
              </a:path>
              <a:path w="1862" h="423">
                <a:moveTo>
                  <a:pt x="14734" y="17934"/>
                </a:moveTo>
                <a:cubicBezTo>
                  <a:pt x="14706" y="17910"/>
                  <a:pt x="14634" y="17840"/>
                  <a:pt x="14585" y="17859"/>
                </a:cubicBezTo>
                <a:cubicBezTo>
                  <a:pt x="14548" y="17874"/>
                  <a:pt x="14534" y="17884"/>
                  <a:pt x="14486" y="17884"/>
                </a:cubicBezTo>
                <a:cubicBezTo>
                  <a:pt x="14486" y="17909"/>
                  <a:pt x="14486" y="17917"/>
                  <a:pt x="14461" y="17909"/>
                </a:cubicBezTo>
              </a:path>
              <a:path w="1862" h="423">
                <a:moveTo>
                  <a:pt x="14684" y="17884"/>
                </a:moveTo>
                <a:cubicBezTo>
                  <a:pt x="14743" y="17884"/>
                  <a:pt x="14782" y="17875"/>
                  <a:pt x="14808" y="17909"/>
                </a:cubicBezTo>
                <a:cubicBezTo>
                  <a:pt x="14836" y="17947"/>
                  <a:pt x="14833" y="17960"/>
                  <a:pt x="14833" y="18008"/>
                </a:cubicBezTo>
                <a:cubicBezTo>
                  <a:pt x="14788" y="18008"/>
                  <a:pt x="14775" y="18028"/>
                  <a:pt x="14734" y="18033"/>
                </a:cubicBezTo>
                <a:cubicBezTo>
                  <a:pt x="14692" y="18038"/>
                  <a:pt x="14664" y="17995"/>
                  <a:pt x="14660" y="17959"/>
                </a:cubicBezTo>
                <a:cubicBezTo>
                  <a:pt x="14660" y="17951"/>
                  <a:pt x="14660" y="17942"/>
                  <a:pt x="14660" y="17934"/>
                </a:cubicBezTo>
              </a:path>
              <a:path w="1862" h="423">
                <a:moveTo>
                  <a:pt x="14684" y="17884"/>
                </a:moveTo>
                <a:cubicBezTo>
                  <a:pt x="14704" y="17892"/>
                  <a:pt x="14864" y="17978"/>
                  <a:pt x="14908" y="17983"/>
                </a:cubicBezTo>
                <a:cubicBezTo>
                  <a:pt x="14948" y="17987"/>
                  <a:pt x="14938" y="17933"/>
                  <a:pt x="14957" y="17909"/>
                </a:cubicBezTo>
                <a:cubicBezTo>
                  <a:pt x="15015" y="17835"/>
                  <a:pt x="15099" y="17820"/>
                  <a:pt x="15180" y="17785"/>
                </a:cubicBezTo>
                <a:cubicBezTo>
                  <a:pt x="15230" y="17760"/>
                  <a:pt x="15247" y="17752"/>
                  <a:pt x="15280" y="177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line is parallel to the vector 2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passes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2, -3, 5). Fi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vector equat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arametric equation  the Cartesia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22560" y="2867040"/>
            <a:ext cx="0" cy="36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75520" y="2865600"/>
            <a:ext cx="0" cy="36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se lines parallel? Consider the direction v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28480" y="3152880"/>
                <a:ext cx="4472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229360" y="2036880"/>
                <a:ext cx="83808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165640" y="3878280"/>
                <a:ext cx="97812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 flipV="1">
            <a:off x="3875040" y="2771640"/>
            <a:ext cx="127800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64040" y="4106880"/>
            <a:ext cx="21744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348240" y="3963960"/>
                <a:ext cx="148284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240160" y="5979960"/>
            <a:ext cx="33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97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these lines parall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not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parametric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5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115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they inters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 =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=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2 = 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1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 – 6 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quation systems work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tersect,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-2     (2, -2, 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895320" y="2058840"/>
                <a:ext cx="26211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61880" y="3073320"/>
                <a:ext cx="14446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flipH="1">
            <a:off x="6211800" y="2973240"/>
            <a:ext cx="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65560" y="34686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065560" y="307656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76640" y="300348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78440" y="4137120"/>
            <a:ext cx="177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1320" y="306216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57240" y="1785960"/>
            <a:ext cx="3063960" cy="1523880"/>
          </a:xfrm>
          <a:prstGeom prst="wedgeRectCallout">
            <a:avLst>
              <a:gd name="adj1" fmla="val 44402"/>
              <a:gd name="adj2" fmla="val 72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the simultaneous equation set. If you can find values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work, then they inters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759120"/>
            <a:ext cx="3076560" cy="1538280"/>
          </a:xfrm>
          <a:prstGeom prst="wedgeRectCallout">
            <a:avLst>
              <a:gd name="adj1" fmla="val 86995"/>
              <a:gd name="adj2" fmla="val -233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, for example, this line was 1 – 6 = 10, the equation set is inconsistent and cannot be solved, so the lines do not intersect. (are sk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1320" y="5616720"/>
            <a:ext cx="3121200" cy="885600"/>
          </a:xfrm>
          <a:prstGeom prst="wedgeRectCallout">
            <a:avLst>
              <a:gd name="adj1" fmla="val 65106"/>
              <a:gd name="adj2" fmla="val -43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either value in the respective equation to find the point of inter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find the angle between two vectors, use the formulae from the book for the product a.b (Method 1 – Eas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390760" y="4527720"/>
                <a:ext cx="33940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220760" y="2489040"/>
                <a:ext cx="1103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598840" y="2495520"/>
                <a:ext cx="934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286000" y="3562200"/>
                <a:ext cx="30877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352600" y="5467320"/>
                <a:ext cx="1567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41440" y="6246720"/>
                <a:ext cx="1683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58920" y="206028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43700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155736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867280" y="1413000"/>
                <a:ext cx="16970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V="1">
            <a:off x="6156360" y="213372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596360" y="1699920"/>
            <a:ext cx="3664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242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1989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ion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11280" y="5013360"/>
            <a:ext cx="144720" cy="144360"/>
            <a:chOff x="2411280" y="5013360"/>
            <a:chExt cx="144720" cy="144360"/>
          </a:xfrm>
        </p:grpSpPr>
        <p:sp>
          <p:nvSpPr>
            <p:cNvPr id="123" name=""/>
            <p:cNvSpPr/>
            <p:nvPr/>
          </p:nvSpPr>
          <p:spPr>
            <a:xfrm flipH="1">
              <a:off x="2411280" y="5013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1280" y="5013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556000" y="47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,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579920"/>
            <a:ext cx="1225440" cy="504720"/>
          </a:xfrm>
          <a:prstGeom prst="line">
            <a:avLst/>
          </a:prstGeom>
          <a:ln w="936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80000" y="5445000"/>
                <a:ext cx="527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8" name=""/>
          <p:cNvGraphicFramePr/>
          <p:nvPr/>
        </p:nvGraphicFramePr>
        <p:xfrm>
          <a:off x="3419640" y="4869000"/>
          <a:ext cx="5545080" cy="1526760"/>
        </p:xfrm>
        <a:graphic>
          <a:graphicData uri="http://schemas.openxmlformats.org/drawingml/2006/table">
            <a:tbl>
              <a:tblPr/>
              <a:tblGrid>
                <a:gridCol w="2143080"/>
                <a:gridCol w="519120"/>
                <a:gridCol w="515880"/>
                <a:gridCol w="519120"/>
                <a:gridCol w="515880"/>
                <a:gridCol w="480960"/>
                <a:gridCol w="423720"/>
                <a:gridCol w="427320"/>
              </a:tblGrid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v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72120" y="5445000"/>
                <a:ext cx="552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588000" y="5445000"/>
                <a:ext cx="505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085160" y="5445000"/>
                <a:ext cx="5205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2" name=""/>
          <p:cNvGrpSpPr/>
          <p:nvPr/>
        </p:nvGrpSpPr>
        <p:grpSpPr>
          <a:xfrm>
            <a:off x="2874600" y="3976560"/>
            <a:ext cx="144720" cy="144360"/>
            <a:chOff x="2874600" y="3976560"/>
            <a:chExt cx="144720" cy="144360"/>
          </a:xfrm>
        </p:grpSpPr>
        <p:sp>
          <p:nvSpPr>
            <p:cNvPr id="133" name=""/>
            <p:cNvSpPr/>
            <p:nvPr/>
          </p:nvSpPr>
          <p:spPr>
            <a:xfrm flipH="1">
              <a:off x="2874600" y="39765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74960" y="39765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04800" y="3040200"/>
            <a:ext cx="144720" cy="144360"/>
            <a:chOff x="3304800" y="3040200"/>
            <a:chExt cx="144720" cy="144360"/>
          </a:xfrm>
        </p:grpSpPr>
        <p:sp>
          <p:nvSpPr>
            <p:cNvPr id="136" name=""/>
            <p:cNvSpPr/>
            <p:nvPr/>
          </p:nvSpPr>
          <p:spPr>
            <a:xfrm flipH="1">
              <a:off x="3304800" y="30402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05160" y="30402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1836720" y="2490840"/>
            <a:ext cx="1871640" cy="3889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528640" y="4710240"/>
            <a:ext cx="144720" cy="144360"/>
            <a:chOff x="2528640" y="4710240"/>
            <a:chExt cx="144720" cy="144360"/>
          </a:xfrm>
        </p:grpSpPr>
        <p:sp>
          <p:nvSpPr>
            <p:cNvPr id="140" name=""/>
            <p:cNvSpPr/>
            <p:nvPr/>
          </p:nvSpPr>
          <p:spPr>
            <a:xfrm flipH="1">
              <a:off x="2528640" y="47102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29000" y="47102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88920" y="5999040"/>
            <a:ext cx="144720" cy="144360"/>
            <a:chOff x="1888920" y="5999040"/>
            <a:chExt cx="144720" cy="144360"/>
          </a:xfrm>
        </p:grpSpPr>
        <p:sp>
          <p:nvSpPr>
            <p:cNvPr id="143" name=""/>
            <p:cNvSpPr/>
            <p:nvPr/>
          </p:nvSpPr>
          <p:spPr>
            <a:xfrm flipH="1">
              <a:off x="1888920" y="59990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89280" y="59990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03880" y="2843280"/>
            <a:ext cx="26589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’ can be any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90840" y="4022640"/>
            <a:ext cx="465120" cy="10540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94800" y="3070080"/>
            <a:ext cx="887400" cy="20116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94800" y="4773600"/>
            <a:ext cx="127080" cy="30816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947960" y="5081760"/>
            <a:ext cx="504720" cy="9856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5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find the angle between two vectors, use the formulae from the book for the product a.b (Method 2 – Har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.b = a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|a| . |b| . co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e.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.b = 2x5 + -1x2 =               .               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0  -    2   = √5 . √29 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384960" y="2576520"/>
                <a:ext cx="1103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773840" y="2560680"/>
                <a:ext cx="93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083120" y="3424320"/>
                <a:ext cx="13428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841480" y="3446640"/>
                <a:ext cx="1187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817640" y="4800600"/>
                <a:ext cx="1739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857240" y="5807160"/>
                <a:ext cx="1683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504040" y="3513240"/>
                <a:ext cx="714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800" y="1741320"/>
            <a:ext cx="750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the vector equation of the line through A and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55560" y="2379600"/>
                <a:ext cx="879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60560" y="2363760"/>
                <a:ext cx="879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V="1">
            <a:off x="2119320" y="3411360"/>
            <a:ext cx="0" cy="26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6640" y="4716360"/>
            <a:ext cx="322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624040" y="5433840"/>
            <a:ext cx="144720" cy="144360"/>
            <a:chOff x="2624040" y="5433840"/>
            <a:chExt cx="144720" cy="144360"/>
          </a:xfrm>
        </p:grpSpPr>
        <p:sp>
          <p:nvSpPr>
            <p:cNvPr id="157" name=""/>
            <p:cNvSpPr/>
            <p:nvPr/>
          </p:nvSpPr>
          <p:spPr>
            <a:xfrm flipH="1">
              <a:off x="2624040" y="543384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24040" y="543384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68120" y="3546360"/>
            <a:ext cx="144720" cy="144360"/>
            <a:chOff x="1068120" y="3546360"/>
            <a:chExt cx="144720" cy="144360"/>
          </a:xfrm>
        </p:grpSpPr>
        <p:sp>
          <p:nvSpPr>
            <p:cNvPr id="160" name=""/>
            <p:cNvSpPr/>
            <p:nvPr/>
          </p:nvSpPr>
          <p:spPr>
            <a:xfrm flipH="1">
              <a:off x="1068120" y="35463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68480" y="35463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830680" y="54435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(2,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0040" y="323532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(-3,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8480" y="3208320"/>
            <a:ext cx="2511360" cy="30322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25760" y="240984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ion vector =        (or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54760" y="2359080"/>
                <a:ext cx="603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866000" y="2355840"/>
                <a:ext cx="5731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36800" y="3027240"/>
                <a:ext cx="5031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483080" y="4206960"/>
            <a:ext cx="447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point = A (or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127480" y="5116680"/>
                <a:ext cx="2305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find the vector equation of the line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  A (5, -3) and B (-4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22560" y="2959200"/>
                <a:ext cx="901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09600" y="2970360"/>
                <a:ext cx="66528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066680" y="4923000"/>
                <a:ext cx="68904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73320" y="4935600"/>
                <a:ext cx="8557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find the vector equation of the line through (-1, 0) and parallel to y = 4x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5, -36) lie on                     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197240" y="1459080"/>
                <a:ext cx="2305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2119320" y="3411360"/>
            <a:ext cx="0" cy="26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6640" y="4716360"/>
            <a:ext cx="322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8480" y="3208320"/>
            <a:ext cx="2263680" cy="271296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39680" y="5649840"/>
            <a:ext cx="144720" cy="144360"/>
            <a:chOff x="2839680" y="5649840"/>
            <a:chExt cx="144720" cy="144360"/>
          </a:xfrm>
        </p:grpSpPr>
        <p:sp>
          <p:nvSpPr>
            <p:cNvPr id="186" name=""/>
            <p:cNvSpPr/>
            <p:nvPr/>
          </p:nvSpPr>
          <p:spPr>
            <a:xfrm flipH="1">
              <a:off x="2839680" y="56498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40040" y="56498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84120" y="3762360"/>
            <a:ext cx="144720" cy="144360"/>
            <a:chOff x="1284120" y="3762360"/>
            <a:chExt cx="144720" cy="144360"/>
          </a:xfrm>
        </p:grpSpPr>
        <p:sp>
          <p:nvSpPr>
            <p:cNvPr id="189" name=""/>
            <p:cNvSpPr/>
            <p:nvPr/>
          </p:nvSpPr>
          <p:spPr>
            <a:xfrm flipH="1">
              <a:off x="1284120" y="3762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84120" y="3762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046320" y="565956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(2,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40" y="345132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(-3,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2480" y="2379600"/>
            <a:ext cx="4630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.e. is there some value of ‘t’ which will generate the point (5, -36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it do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605480" y="3560760"/>
                <a:ext cx="2309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645080" y="4313160"/>
                <a:ext cx="22748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556160" y="5111640"/>
                <a:ext cx="21193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6095880" y="534024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75480" y="586260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440480" y="5008680"/>
                <a:ext cx="7495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342200" y="5730840"/>
                <a:ext cx="8557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768320" y="6018120"/>
            <a:ext cx="4876920" cy="6426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’ can’t be both things at once – so the point is not on the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3, 2) li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1, -3) li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260960" y="1424160"/>
                <a:ext cx="25542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29080" y="3699000"/>
                <a:ext cx="23814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ametric form – each dimension (x, y, z) given in terms of a paramete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r = i + 2j – 4k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6i – 7j + 3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.O. Manipulate lines of given vector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parametric equations of the line passing through A (-2, 1, 3) and B (1, -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52:43Z</dcterms:created>
  <dc:creator>N Holden</dc:creator>
  <dc:description/>
  <dc:language>en-US</dc:language>
  <cp:lastModifiedBy>School</cp:lastModifiedBy>
  <dcterms:modified xsi:type="dcterms:W3CDTF">2008-12-16T11:54:50Z</dcterms:modified>
  <cp:revision>12</cp:revision>
  <dc:subject/>
  <dc:title>L.O. Manipulate lines of given vector equations</dc:title>
</cp:coreProperties>
</file>